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26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69.xml.rels" ContentType="application/vnd.openxmlformats-package.relationships+xml"/>
  <Override PartName="/ppt/slides/_rels/slide165.xml.rels" ContentType="application/vnd.openxmlformats-package.relationships+xml"/>
  <Override PartName="/ppt/slides/_rels/slide88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43.xml.rels" ContentType="application/vnd.openxmlformats-package.relationships+xml"/>
  <Override PartName="/ppt/slides/_rels/slide133.xml.rels" ContentType="application/vnd.openxmlformats-package.relationships+xml"/>
  <Override PartName="/ppt/slides/_rels/slide17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5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177.xml.rels" ContentType="application/vnd.openxmlformats-package.relationships+xml"/>
  <Override PartName="/ppt/slides/_rels/slide147.xml.rels" ContentType="application/vnd.openxmlformats-package.relationships+xml"/>
  <Override PartName="/ppt/slides/_rels/slide181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6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71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7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78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81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70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56.xml.rels" ContentType="application/vnd.openxmlformats-package.relationships+xml"/>
  <Override PartName="/ppt/slides/_rels/slide178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53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165.xml" ContentType="application/vnd.openxmlformats-officedocument.presentationml.slide+xml"/>
  <Override PartName="/ppt/slides/slide6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  <p:sldId id="385" r:id="rId134"/>
    <p:sldId id="386" r:id="rId135"/>
    <p:sldId id="387" r:id="rId136"/>
    <p:sldId id="388" r:id="rId137"/>
    <p:sldId id="389" r:id="rId138"/>
    <p:sldId id="390" r:id="rId139"/>
    <p:sldId id="391" r:id="rId140"/>
    <p:sldId id="392" r:id="rId141"/>
    <p:sldId id="393" r:id="rId142"/>
    <p:sldId id="394" r:id="rId143"/>
    <p:sldId id="395" r:id="rId144"/>
    <p:sldId id="396" r:id="rId145"/>
    <p:sldId id="397" r:id="rId146"/>
    <p:sldId id="398" r:id="rId147"/>
    <p:sldId id="399" r:id="rId148"/>
    <p:sldId id="400" r:id="rId149"/>
    <p:sldId id="401" r:id="rId150"/>
    <p:sldId id="402" r:id="rId151"/>
    <p:sldId id="403" r:id="rId152"/>
    <p:sldId id="404" r:id="rId153"/>
    <p:sldId id="405" r:id="rId154"/>
    <p:sldId id="406" r:id="rId155"/>
    <p:sldId id="407" r:id="rId156"/>
    <p:sldId id="408" r:id="rId157"/>
    <p:sldId id="409" r:id="rId158"/>
    <p:sldId id="410" r:id="rId159"/>
    <p:sldId id="411" r:id="rId160"/>
    <p:sldId id="412" r:id="rId161"/>
    <p:sldId id="413" r:id="rId162"/>
    <p:sldId id="414" r:id="rId163"/>
    <p:sldId id="415" r:id="rId164"/>
    <p:sldId id="416" r:id="rId165"/>
    <p:sldId id="417" r:id="rId166"/>
    <p:sldId id="418" r:id="rId167"/>
    <p:sldId id="419" r:id="rId168"/>
    <p:sldId id="420" r:id="rId169"/>
    <p:sldId id="421" r:id="rId170"/>
    <p:sldId id="422" r:id="rId171"/>
    <p:sldId id="423" r:id="rId172"/>
    <p:sldId id="424" r:id="rId173"/>
    <p:sldId id="425" r:id="rId174"/>
    <p:sldId id="426" r:id="rId175"/>
    <p:sldId id="427" r:id="rId176"/>
    <p:sldId id="428" r:id="rId177"/>
    <p:sldId id="429" r:id="rId178"/>
    <p:sldId id="430" r:id="rId179"/>
    <p:sldId id="431" r:id="rId180"/>
    <p:sldId id="432" r:id="rId181"/>
    <p:sldId id="433" r:id="rId182"/>
    <p:sldId id="434" r:id="rId183"/>
    <p:sldId id="435" r:id="rId184"/>
    <p:sldId id="436" r:id="rId185"/>
    <p:sldId id="437" r:id="rId18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slide" Target="slides/slide130.xml"/><Relationship Id="rId135" Type="http://schemas.openxmlformats.org/officeDocument/2006/relationships/slide" Target="slides/slide131.xml"/><Relationship Id="rId136" Type="http://schemas.openxmlformats.org/officeDocument/2006/relationships/slide" Target="slides/slide132.xml"/><Relationship Id="rId137" Type="http://schemas.openxmlformats.org/officeDocument/2006/relationships/slide" Target="slides/slide133.xml"/><Relationship Id="rId138" Type="http://schemas.openxmlformats.org/officeDocument/2006/relationships/slide" Target="slides/slide134.xml"/><Relationship Id="rId139" Type="http://schemas.openxmlformats.org/officeDocument/2006/relationships/slide" Target="slides/slide135.xml"/><Relationship Id="rId140" Type="http://schemas.openxmlformats.org/officeDocument/2006/relationships/slide" Target="slides/slide136.xml"/><Relationship Id="rId141" Type="http://schemas.openxmlformats.org/officeDocument/2006/relationships/slide" Target="slides/slide137.xml"/><Relationship Id="rId142" Type="http://schemas.openxmlformats.org/officeDocument/2006/relationships/slide" Target="slides/slide138.xml"/><Relationship Id="rId143" Type="http://schemas.openxmlformats.org/officeDocument/2006/relationships/slide" Target="slides/slide139.xml"/><Relationship Id="rId144" Type="http://schemas.openxmlformats.org/officeDocument/2006/relationships/slide" Target="slides/slide140.xml"/><Relationship Id="rId145" Type="http://schemas.openxmlformats.org/officeDocument/2006/relationships/slide" Target="slides/slide141.xml"/><Relationship Id="rId146" Type="http://schemas.openxmlformats.org/officeDocument/2006/relationships/slide" Target="slides/slide142.xml"/><Relationship Id="rId147" Type="http://schemas.openxmlformats.org/officeDocument/2006/relationships/slide" Target="slides/slide143.xml"/><Relationship Id="rId148" Type="http://schemas.openxmlformats.org/officeDocument/2006/relationships/slide" Target="slides/slide144.xml"/><Relationship Id="rId149" Type="http://schemas.openxmlformats.org/officeDocument/2006/relationships/slide" Target="slides/slide145.xml"/><Relationship Id="rId150" Type="http://schemas.openxmlformats.org/officeDocument/2006/relationships/slide" Target="slides/slide146.xml"/><Relationship Id="rId151" Type="http://schemas.openxmlformats.org/officeDocument/2006/relationships/slide" Target="slides/slide147.xml"/><Relationship Id="rId152" Type="http://schemas.openxmlformats.org/officeDocument/2006/relationships/slide" Target="slides/slide148.xml"/><Relationship Id="rId153" Type="http://schemas.openxmlformats.org/officeDocument/2006/relationships/slide" Target="slides/slide149.xml"/><Relationship Id="rId154" Type="http://schemas.openxmlformats.org/officeDocument/2006/relationships/slide" Target="slides/slide150.xml"/><Relationship Id="rId155" Type="http://schemas.openxmlformats.org/officeDocument/2006/relationships/slide" Target="slides/slide151.xml"/><Relationship Id="rId156" Type="http://schemas.openxmlformats.org/officeDocument/2006/relationships/slide" Target="slides/slide152.xml"/><Relationship Id="rId157" Type="http://schemas.openxmlformats.org/officeDocument/2006/relationships/slide" Target="slides/slide153.xml"/><Relationship Id="rId158" Type="http://schemas.openxmlformats.org/officeDocument/2006/relationships/slide" Target="slides/slide154.xml"/><Relationship Id="rId159" Type="http://schemas.openxmlformats.org/officeDocument/2006/relationships/slide" Target="slides/slide155.xml"/><Relationship Id="rId160" Type="http://schemas.openxmlformats.org/officeDocument/2006/relationships/slide" Target="slides/slide156.xml"/><Relationship Id="rId161" Type="http://schemas.openxmlformats.org/officeDocument/2006/relationships/slide" Target="slides/slide157.xml"/><Relationship Id="rId162" Type="http://schemas.openxmlformats.org/officeDocument/2006/relationships/slide" Target="slides/slide158.xml"/><Relationship Id="rId163" Type="http://schemas.openxmlformats.org/officeDocument/2006/relationships/slide" Target="slides/slide159.xml"/><Relationship Id="rId164" Type="http://schemas.openxmlformats.org/officeDocument/2006/relationships/slide" Target="slides/slide160.xml"/><Relationship Id="rId165" Type="http://schemas.openxmlformats.org/officeDocument/2006/relationships/slide" Target="slides/slide161.xml"/><Relationship Id="rId166" Type="http://schemas.openxmlformats.org/officeDocument/2006/relationships/slide" Target="slides/slide162.xml"/><Relationship Id="rId167" Type="http://schemas.openxmlformats.org/officeDocument/2006/relationships/slide" Target="slides/slide163.xml"/><Relationship Id="rId168" Type="http://schemas.openxmlformats.org/officeDocument/2006/relationships/slide" Target="slides/slide164.xml"/><Relationship Id="rId169" Type="http://schemas.openxmlformats.org/officeDocument/2006/relationships/slide" Target="slides/slide165.xml"/><Relationship Id="rId170" Type="http://schemas.openxmlformats.org/officeDocument/2006/relationships/slide" Target="slides/slide166.xml"/><Relationship Id="rId171" Type="http://schemas.openxmlformats.org/officeDocument/2006/relationships/slide" Target="slides/slide167.xml"/><Relationship Id="rId172" Type="http://schemas.openxmlformats.org/officeDocument/2006/relationships/slide" Target="slides/slide168.xml"/><Relationship Id="rId173" Type="http://schemas.openxmlformats.org/officeDocument/2006/relationships/slide" Target="slides/slide169.xml"/><Relationship Id="rId174" Type="http://schemas.openxmlformats.org/officeDocument/2006/relationships/slide" Target="slides/slide170.xml"/><Relationship Id="rId175" Type="http://schemas.openxmlformats.org/officeDocument/2006/relationships/slide" Target="slides/slide171.xml"/><Relationship Id="rId176" Type="http://schemas.openxmlformats.org/officeDocument/2006/relationships/slide" Target="slides/slide172.xml"/><Relationship Id="rId177" Type="http://schemas.openxmlformats.org/officeDocument/2006/relationships/slide" Target="slides/slide173.xml"/><Relationship Id="rId178" Type="http://schemas.openxmlformats.org/officeDocument/2006/relationships/slide" Target="slides/slide174.xml"/><Relationship Id="rId179" Type="http://schemas.openxmlformats.org/officeDocument/2006/relationships/slide" Target="slides/slide175.xml"/><Relationship Id="rId180" Type="http://schemas.openxmlformats.org/officeDocument/2006/relationships/slide" Target="slides/slide176.xml"/><Relationship Id="rId181" Type="http://schemas.openxmlformats.org/officeDocument/2006/relationships/slide" Target="slides/slide177.xml"/><Relationship Id="rId182" Type="http://schemas.openxmlformats.org/officeDocument/2006/relationships/slide" Target="slides/slide178.xml"/><Relationship Id="rId183" Type="http://schemas.openxmlformats.org/officeDocument/2006/relationships/slide" Target="slides/slide179.xml"/><Relationship Id="rId184" Type="http://schemas.openxmlformats.org/officeDocument/2006/relationships/slide" Target="slides/slide180.xml"/><Relationship Id="rId185" Type="http://schemas.openxmlformats.org/officeDocument/2006/relationships/slide" Target="slides/slide181.xml"/><Relationship Id="rId186" Type="http://schemas.openxmlformats.org/officeDocument/2006/relationships/slide" Target="slides/slide182.xml"/><Relationship Id="rId18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it-IT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F070129-4365-48BC-B0C8-C9415BE4CA27}" type="slidenum">
              <a:rPr b="0" lang="it-IT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 programma utente si intende la traduzione, suggerita da Michele Diodati, dello USER AG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entratura ha significato solo se il box ha una larghezza specific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margini superiore e inferiore dei paragrafi sono generalmente pari a 1em, i div hanno margine nu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dremo più avanti il significato di box flottante e box posizi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dremo più avanti il significato di box flottante e box posizion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consideri la sovrapposizione degli effetti per cui è possibile definire alcuni aspetti globalmente e altri in modo speci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8920" y="414612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0760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628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892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0760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628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604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8920" y="414612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604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0760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56280" y="170028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892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0760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56280" y="4146120"/>
            <a:ext cx="27126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414612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00280"/>
            <a:ext cx="411120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58920" y="4146120"/>
            <a:ext cx="8424720" cy="22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97960" y="5516640"/>
            <a:ext cx="134604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7"/>
                </a:solidFill>
                <a:latin typeface="Trebuchet MS"/>
              </a:rPr>
              <a:t>A SCUOLA DI S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0280"/>
            <a:ext cx="9144000" cy="289080"/>
          </a:xfrm>
          <a:prstGeom prst="rect">
            <a:avLst/>
          </a:prstGeom>
          <a:solidFill>
            <a:srgbClr val="fffb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76360" y="6597720"/>
            <a:ext cx="766764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7"/>
                </a:solidFill>
                <a:latin typeface="Verdana"/>
              </a:rPr>
              <a:t>ARESE (MI) 11.03.2005 — © 2006 GIANLUCA TROIA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597720"/>
            <a:ext cx="251928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7"/>
                </a:solidFill>
                <a:latin typeface="Verdana"/>
              </a:rPr>
              <a:t>Diapositiva </a:t>
            </a:r>
            <a:fld id="{BCB6F907-27E0-49F4-8E27-FE839C288594}" type="slidenum">
              <a:rPr b="1" lang="it-IT" sz="900" spc="-1" strike="noStrike">
                <a:solidFill>
                  <a:srgbClr val="fffff7"/>
                </a:solidFill>
                <a:latin typeface="Verdana"/>
              </a:rPr>
              <a:t>&lt;number&gt;</a:t>
            </a:fld>
            <a:r>
              <a:rPr b="1" lang="it-IT" sz="900" spc="-1" strike="noStrike">
                <a:solidFill>
                  <a:srgbClr val="fffff7"/>
                </a:solidFill>
                <a:latin typeface="Verdana"/>
              </a:rPr>
              <a:t> di 18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797960" y="5516640"/>
            <a:ext cx="1346040" cy="106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476360" y="6597720"/>
            <a:ext cx="766764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7"/>
                </a:solidFill>
                <a:latin typeface="Verdana"/>
              </a:rPr>
              <a:t>ARESE (MI) 11.03.2005 — © 2006 GIANLUCA TROIA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97720"/>
            <a:ext cx="251928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fffff7"/>
                </a:solidFill>
                <a:latin typeface="Verdana"/>
              </a:rPr>
              <a:t>Diapositiva </a:t>
            </a:r>
            <a:fld id="{70229CF8-AC33-4899-BF5D-C62321D8F9E0}" type="slidenum">
              <a:rPr b="1" lang="it-IT" sz="900" spc="-1" strike="noStrike">
                <a:solidFill>
                  <a:srgbClr val="fffff7"/>
                </a:solidFill>
                <a:latin typeface="Verdana"/>
              </a:rPr>
              <a:t>&lt;number&gt;</a:t>
            </a:fld>
            <a:r>
              <a:rPr b="1" lang="it-IT" sz="900" spc="-1" strike="noStrike">
                <a:solidFill>
                  <a:srgbClr val="fffff7"/>
                </a:solidFill>
                <a:latin typeface="Verdana"/>
              </a:rPr>
              <a:t> di 18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260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7"/>
                </a:solidFill>
                <a:latin typeface="Trebuchet MS"/>
              </a:rPr>
              <a:t>A SCUOLA DI S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8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8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8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9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9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9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3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9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9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A SCUOLA DI STIL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A SONO E COME FUNZIONANO I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 DIVERSO APPROCCI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a realizzazione di pagine web tramite XHTML+CSS è richiesto 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verso approcci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rispetto a quanto si farebbe impaginando per mezzo di tabelle con i programmi del tip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YSIWY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ziché lanciare l’editor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WYSIWY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cominciare 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isegn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struttura della pagina, è necessari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rganizz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 contenuti in modo logico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aggruppar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, se necessario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dentificar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 modo univoco o associarli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las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pecif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rendere i contenuti megli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ruibi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n qualsiasi dispositivo, è bene organizzarli in modo che siano letti nell’ordine ide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rreggere il difetto bisogna (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olo per IE/Wi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cificare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rgh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o l’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tezz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a seconda colonna (ve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diapositiva 95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r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argine destro della prima colonna di 3 pix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354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nnull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il margine sinistro della seconda colo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#f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float:left;width:200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margin:0 -3px 0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#box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margin:0 0 0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height: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646520" y="2166840"/>
            <a:ext cx="4137120" cy="37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-181080" y="5541840"/>
            <a:ext cx="9506160" cy="72072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 E LIST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atori di l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dispongo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t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 box flot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ntazio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le liste so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u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tto questo è conseguenza del fatto c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gin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d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 cui sono realizzate le indentazioni so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nfluent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iché il testo delle liste si disporr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unq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i fianco al box flot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TENZIONE: NON SI TRATTA DI UN BAC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788000" y="2149560"/>
          <a:ext cx="4136760" cy="37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49560"/>
                    <a:ext cx="4136760" cy="37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64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visibi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mette di rendere invisibile un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i quanto accade con la dichiarazion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splay:n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il blocco continua ad influenzare il posizionamento degli altri elementi della pag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visibili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mmette due val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vi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idd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5003640" y="1700280"/>
            <a:ext cx="4096080" cy="22651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5003640" y="4118040"/>
            <a:ext cx="4096080" cy="226512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716360" y="4292640"/>
            <a:ext cx="2772000" cy="865080"/>
          </a:xfrm>
          <a:prstGeom prst="wedgeRectCallout">
            <a:avLst>
              <a:gd name="adj1" fmla="val 49425"/>
              <a:gd name="adj2" fmla="val 79726"/>
            </a:avLst>
          </a:prstGeom>
          <a:solidFill>
            <a:srgbClr val="fffff7">
              <a:alpha val="67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l paragrafo è stata assegnata la dichiarazione </a:t>
            </a: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visibility:hid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I E SFO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ORE IN PRIMO PIANO (TESTO E BORDI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lore del testo e dei bordi è definito tramite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valore predefinito è quell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eredit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l testo del blocco p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non diversamente specificato, il colore per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o meglio ancora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html&gt;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quello assegnato per il testo dalle impostazioni de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 del browser, e non è necessariamente 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sfondo può ess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spar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ratterizzato da una tinta pia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empito del tutto o in parte da una imma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sfondo può essere gestito attraverso le seguenti propriet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co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i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riassume le diverse proprietà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ORE DELLO SFOND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color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uò assumere i seguenti val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colore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vedi diapositiva 49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predefinito è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olo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il valore per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colo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è eredit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diversamente specificato, lo sfondo della pagina è stabilito dalle impostazioni d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oper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del browser e non è necessariament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LORI DI TESTO E SFONDO DEFINITI SEPARATAM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00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proprietà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background-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vrebbero essere sempre specificate in coppia per evitare conflitti con le impostazioni prede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igura si vede il risultato ottenuto con una impostazione di Windows a contrasto elevato quando il testo è impostato sul blu (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#0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ma lo sfondo non è esplicitamente impo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6141960" y="1557360"/>
            <a:ext cx="2894040" cy="320832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"/>
          <a:srcRect l="0" t="0" r="55742" b="19903"/>
          <a:stretch/>
        </p:blipFill>
        <p:spPr>
          <a:xfrm>
            <a:off x="5397480" y="3933720"/>
            <a:ext cx="284652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8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IMAG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inserire un’immagine di sfondo è sufficiente specificarne l’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tramite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imag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image:url(/im/sfondo.pn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mmagine sarà posizionata in alto a destra e sarà ripetuta verticalmente e orizzont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mmagine scorrerà assieme al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specificare che non dovrà essere usata nessuna immagine si utilizza il valor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che è il valore predefinito): 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image:none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REPE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repe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possibile stabilire se e come l’immagine sarà ripet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repeat:repe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l’immagine sarà ripetuta orizzontalmente e verticalmente (valore predefin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repeat:repeat-x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l’immagine sarà ripetuta solo orizzont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repeat:repeat-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l’immagine sarà ripetuta solo vertic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repeat:no-repe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comparirà una sola occorrenza dell’im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TURA DI UN FOGLIO DI ST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ATTACH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attachme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possibile stabilire se l’immagine di sfondo sarà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ss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ovver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rer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l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attachment:scro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l’immagin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orrerà assieme alla pagin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valore predefini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ackground-attachment:fixe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ca che l’immagine sarà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issata nella sua posizione inizia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ndipendentemente dallo scorrimento della pagina (il funzionamento è garantito solo con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POS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ackground-posi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stabilire la posizione iniziale dell’immag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lori ammessi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ità di lungh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ità percentu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role chia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en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posizionamento oriz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ent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l posizionamento vert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lori vanno espressi in coppia e indicano rispettivamente il posizionamento orizzontale e vert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POS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sono usate le unità di lunghezza, l’angolo superiore sinistro dell’immagine è posizionato relativamente all’angolo superiore sinistro dell’area del p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sono utilizzate le unità percentuali si ha il seguente comport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X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valore percentuale per la posizione orizz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Y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valore percentuale per la posizione verti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unto dell’immagine che si trova alle coordina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X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Y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arà posto in posizion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X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Y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’area del p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-POS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1332000" y="1628640"/>
          <a:ext cx="6377040" cy="477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628640"/>
                    <a:ext cx="6377040" cy="47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"/>
          <p:cNvSpPr/>
          <p:nvPr/>
        </p:nvSpPr>
        <p:spPr>
          <a:xfrm>
            <a:off x="2635200" y="2087640"/>
            <a:ext cx="2608200" cy="61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80000" y="537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background-position : 20% 25%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789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ackgroun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mette di definire con un’unica dichiarazione tutte le varie proprietà contemporane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non sono specificati alcuni valori, allora vengono implicitamente assegnati quelli predefiniti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body {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background: #fff url(img.jpg) 100% 0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no-repeat fixed; 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5162400" y="1700280"/>
            <a:ext cx="3916440" cy="226512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5162400" y="4118040"/>
            <a:ext cx="3916440" cy="226512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ORI E SFON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TTERI E 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RATTERI E TES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i caratteri sono disponibili le seguenti proprietà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famil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pecifica il tipo di cara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siz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pecifica la dimensione del caratt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sty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per specificare il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ors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weigh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per specificare il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grass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varia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per specificare il maiuscol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per specificare contemporaneamente le precedenti prop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NT-FAMIL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-family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possibile specificare diversi tipi di carattere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dy {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-family:verdana,arial,sans-serif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arattere usato sarà il primo, fra quelli specificati, che risulta essere disponibile nel computer dell’u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bene concludere l’elenco con un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amiglia generic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usare nel caso in cui gli altri tipi di carattere non siano disponibili. Le famiglie generiche son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eri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ad esempio il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Time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ans-serif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ad esempio il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erda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onospac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ad esempio il 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Couri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NT-SI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ont-siz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possibile specificare la dimensione del carat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essere utilizzate unità d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unghezz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sono consigliate qu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d eccezione dei pixel) e unità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ercentu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sconsigliato l’uso dell’uni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oiché con Internet Explorer per Windows il testo sarebbe non ridimensionab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unità relative e le percentuali si riferiscono alle dimensioni dell’elemento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sare le unità percentuali corrisponde ad utilizzare le uni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net Explorer ha un baco che sconsiglia l’uso delle uni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d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poiché il ridimensionamento dei caratteri è ecc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ssono inoltre essere utilizzati i valor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isti nella diapositiva 45 (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xx-small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it-IT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xx-larg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larg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small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NT-STILE, FONT-WEIGHT, FONT-VARI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-sty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formattare il testo in cors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lori ammessi sono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norm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ital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-w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formattare il testo in grass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lori ammessi sono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norm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mmessi altri valori ma sono scarsamente supportati dai programmi ut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-varia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formattare il testo in maiuscolet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lori ammessi sono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norm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mall-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TTURA DI UN FOGLIO DI STI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foglio di stile è un documento che raccoglie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ieme di regole di rappresent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contenuti del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gi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cui il foglio è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oci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 seguito è rappresentata la struttura di una rego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STRUTTURA DI UN FOGLIO DI S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30560" y="5084640"/>
            <a:ext cx="4138560" cy="432000"/>
          </a:xfrm>
          <a:prstGeom prst="rect">
            <a:avLst/>
          </a:prstGeom>
          <a:solidFill>
            <a:srgbClr val="fffb6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4005360"/>
            <a:ext cx="5581440" cy="2067120"/>
          </a:xfrm>
          <a:prstGeom prst="rect">
            <a:avLst/>
          </a:prstGeom>
          <a:solidFill>
            <a:srgbClr val="fffb69">
              <a:alpha val="50000"/>
            </a:srgbClr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h1 {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size : 2e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ont-weight : bol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08360" y="5805360"/>
            <a:ext cx="2376360" cy="360360"/>
          </a:xfrm>
          <a:prstGeom prst="wedgeRectCallout">
            <a:avLst>
              <a:gd name="adj1" fmla="val -4240"/>
              <a:gd name="adj2" fmla="val -154847"/>
            </a:avLst>
          </a:prstGeom>
          <a:solidFill>
            <a:srgbClr val="fffff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HIAR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6360" y="3789360"/>
            <a:ext cx="1800000" cy="360360"/>
          </a:xfrm>
          <a:prstGeom prst="wedgeRectCallout">
            <a:avLst>
              <a:gd name="adj1" fmla="val -21430"/>
              <a:gd name="adj2" fmla="val 199777"/>
            </a:avLst>
          </a:prstGeom>
          <a:solidFill>
            <a:srgbClr val="fffff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3429000"/>
            <a:ext cx="1944720" cy="360360"/>
          </a:xfrm>
          <a:prstGeom prst="wedgeRectCallout">
            <a:avLst>
              <a:gd name="adj1" fmla="val 36287"/>
              <a:gd name="adj2" fmla="val 145592"/>
            </a:avLst>
          </a:prstGeom>
          <a:solidFill>
            <a:srgbClr val="fffff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149720"/>
            <a:ext cx="1368360" cy="360360"/>
          </a:xfrm>
          <a:prstGeom prst="wedgeRectCallout">
            <a:avLst>
              <a:gd name="adj1" fmla="val -45939"/>
              <a:gd name="adj2" fmla="val 94050"/>
            </a:avLst>
          </a:prstGeom>
          <a:solidFill>
            <a:srgbClr val="fffff7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20000" y="3357720"/>
            <a:ext cx="1584360" cy="360360"/>
          </a:xfrm>
          <a:prstGeom prst="wedgeRectCallout">
            <a:avLst>
              <a:gd name="adj1" fmla="val -57115"/>
              <a:gd name="adj2" fmla="val 237666"/>
            </a:avLst>
          </a:prstGeom>
          <a:solidFill>
            <a:srgbClr val="fffff7"/>
          </a:solidFill>
          <a:ln w="255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specifica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proprietà del caratte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ntemporane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intassi ammessa è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ont: &lt;font-style&gt; &lt;font-variant&gt; &lt;font-weight&gt; &lt;font-size&gt;/&lt;line-height&gt; &lt;font-famil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è necessario specificar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propri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 la dichiarazione si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alid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necessario specificar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lme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font-size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font-famil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ssieme alla dimensione del testo è possibile specificare l’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terline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ramit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font-size&gt;/&lt;line-height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: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1 { font : bold 2em/1.5em georgia, serif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LLINEAMENTO DEL TES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allineamento orizzontale del testo può essere stabilito tramite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ext-al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lori ammessi: 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cen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just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indentazione è stabilita tramit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ext-i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ammesse unità di lunghezza o unità percentu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empio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 { text-indent: 2em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CORAZIONE DEL TES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testo può esser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ecor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n sottolineature (da usarsi essenzialmente con i link),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opralineatu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da evitare), testo barrato (essenzialmente per i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del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ventuali decorazioni vanno specificate tramite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ext-dec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valori ammessi sono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nder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overli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ine-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AZIATURA FRA PAROLE E CARATTE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o spazio predefinito fra lettere e parole può essere modificato tramite le proprietà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etter-spacing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word-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ammesse tutte le diverse unità di lunghezza, tuttavia sono particolarmente indicate le uni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specificato può esse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osi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specificato non indica la distanza fra le varie lettere o parole ma va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ommar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la distanz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edefinita</a:t>
            </a: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1{ letter-spacing:0.2em;word-spacing:0.5em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RATTERI BIANCHI E INTERRUZIONI DI LINE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ue o più spazi bianchi nel codice sorgente generalmente vengono assorbiti in un unico spazio bi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interruzioni di linea nel codice sorgente sono generalmente interpretate come uno spazio bian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eneralmente il browser crea una nuova linea quando il testo non entra nello spazio orizzontale a disposi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Tutti questi comportamenti possono essere regolati tramite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whit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ARATTERI BIANCHI E INTERRUZIONI DI LINE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ono ammessi i seguenti val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rma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comportamento predefin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spazi bianchi multipli non collassano in un unico spazio bianco. Eventuali interruzioni di linea sono generate da interruzioni di linea nel codice oppure da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br 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wrap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 gli spazi bianchi collassano. Eventuali interruzioni di linea sono generate solo da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br /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e non anche dall’eccessiva lunghezza del testo inserito in una singola lin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RASFORMAZIONI DEL CARATTER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ext-transfor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gestire i caratter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iusc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inusc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dipendentem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quanto specificato ne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no ammessi i seguenti val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apitaliz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im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ttera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g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arola è rappresentata in maius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pperca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letter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g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arola sono rappresentate in maius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owerca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e lettere d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g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arola sono rappresentate in minusco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nessuna vari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1 { font-variant: uppercase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2 { font-variant: capitalize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ARATTERI E T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TAZIONE DELLE TAB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RMATTAZIONE DELLE TABEL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CSS è possibile formattare efficacemente le tab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vari attributi delle tabelle hanno un corrispondenza con apposite proprietà C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ellpadding </a:t>
            </a:r>
            <a:r>
              <a:rPr b="1" lang="it-IT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p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ellspacing </a:t>
            </a:r>
            <a:r>
              <a:rPr b="1" lang="it-IT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border-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rder </a:t>
            </a:r>
            <a:r>
              <a:rPr b="1" lang="it-IT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b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width </a:t>
            </a:r>
            <a:r>
              <a:rPr b="1" lang="it-IT" sz="2400" spc="-1" strike="noStrike">
                <a:solidFill>
                  <a:srgbClr val="cc3300"/>
                </a:solidFill>
                <a:latin typeface="Wingdings"/>
                <a:ea typeface="Wingdings"/>
              </a:rPr>
              <a:t>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bene specificare la dimensione del testo per le tabelle (ad esempio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able{font-size:1em}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poiché Internet Explorer tende a ignorare le impostazioni scelte per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FORMATTAZIONE DELLE TA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RDER-COLLAPS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149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bordi della tabella e delle singole celle sono specificati separatam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able { border:3px solid #90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d,th { border:1px solid #90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tomaticamente, il browser lascia dello spazio fra i bordi delle singole c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eliminare tale spazio si utilizza 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col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valori ammessi sono: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collap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i bordi sono separati, può essere utile non mostrare le celle vu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able { empty-cells: hide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FORMATTAZIONE DELLE TA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5508720" y="2013120"/>
            <a:ext cx="353376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REGO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regola è costituita d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o o pi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lettor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separati da una virgola ‘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a cui associare un insieme di dichiarazioni racchiuse fra parentesi graffe ‘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varie d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hiarazi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ono separate da un  punto e virgola ‘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gn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chiaraz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è costituita da due elementi separati dai due punti ‘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479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o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 l’insieme di valori) assegnato alla prop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STRUTTURA DI UN FOGLIO DI ST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IGHE 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5149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cificando opportunamente i bordi è possibile ottenere una griglia solo orizzontale o solo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tutti e due i casi è necessario impostare i bordi in modo che collass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abl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collapse: collap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iglia orizzo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d,th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:1px #9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tyle: solid no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riglia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d,th { border:1px solid #90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d{ border-style: none solid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FORMATTAZIONE DELLE TA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502240" y="2036880"/>
            <a:ext cx="3533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STAZIONE E RIGH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00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’intestazione della tabella, identificabile tramite il tag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thead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uò essere formattata indipendentemente dal resto della tabell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thead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background:#ff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color:#0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text-align:cent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font-weight:bol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text-transform:upperca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ttraverso le classi è possibile evidenziare meglio le diverse righe alternandone il colore di sfo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tr.d {background:#eee;color:#00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tr.p {background:#fff;color:#00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FORMATTAZIONE DELLE TA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502240" y="1628640"/>
            <a:ext cx="3533760" cy="24670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508720" y="4292640"/>
            <a:ext cx="3456000" cy="20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able summary="...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head&gt;&lt;tr&gt;&lt;th&gt;…&lt;/th&gt;…&lt;/tr&gt;&lt;/t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r class="d"&gt;&lt;td&gt;…&lt;/td&gt;…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r class="p"&gt;&lt;td&gt;…&lt;/td&gt;…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r class="d"&gt;&lt;td&gt;…&lt;/td&gt;…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tr class="p"&gt;&lt;td&gt;…&lt;/td&gt;…&lt;/t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/t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&lt;/tabl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AZIO FRA CEL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005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pazio fra le celle può essere specificato attraverso 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pa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pac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ha effetto quando i bordi delle singole celle non collass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pac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mmette come valori solo delle lunghezz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able { border-spacing:20px;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pac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è supportata da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FORMATTAZIONE DELLE TA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437080" y="2403360"/>
            <a:ext cx="359892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SECOND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PR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 VERSIONE SENZA E CON I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658800" y="1700280"/>
            <a:ext cx="3533760" cy="4682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4646520" y="2081160"/>
            <a:ext cx="4137120" cy="3921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OTORE DI RICERC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358920" y="1600200"/>
            <a:ext cx="4135320" cy="1541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4646520" y="1600200"/>
            <a:ext cx="4137120" cy="15415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8920" y="3357720"/>
            <a:ext cx="842472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motore di ricerca è allineato col logo tramite il posizionamento assolu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&lt;div id="testa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&lt;form id="motore" …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&lt;div&gt;&lt;label for="q"&gt;Ricerca&lt;/label&gt; &lt;input type="text" class="text" id="q" name="q" size="12" maxlength="100" /&gt; &lt;input type="submit" class="submit" value="avvia ricerca" /&gt;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&lt;/form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&lt;h1&gt;&lt;a href="{?}"&gt;&lt;img src="…" alt="…" /&gt;&lt;/a&gt;&lt;/h1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#motore{margin:0;</a:t>
            </a: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position:absolute;right:1em;top:0.5em;</a:t>
            </a: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#motore input{margin:0 1em 0 0;font-size:1em;vertical-align:middl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#motore input.submit{border:2px solid;border-color:#EEE #666 #666 #EEE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#motore input.text{border:2px solid;border-color:#666 #EEE #EEE #666;width:200px;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#motore label{</a:t>
            </a: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display:block;</a:t>
            </a:r>
            <a:r>
              <a:rPr b="0" lang="it-IT" sz="1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DUE VERSIONI DEL LOG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473120" y="1628640"/>
            <a:ext cx="1905120" cy="74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5762520" y="1628640"/>
            <a:ext cx="1905120" cy="743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58920" y="2421000"/>
            <a:ext cx="84247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ottiene la sostituzione del primo logo col second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nascondend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la prima versione tramite 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isibility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applicando la seconda versione del logo come sfondo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H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&lt;h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&lt;a href="{?}"&gt;&lt;img src="..." alt="mio sito" /&gt;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3300"/>
                </a:solidFill>
                <a:latin typeface="Courier New"/>
              </a:rPr>
              <a:t>&lt;/h1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h1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margin: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adding:0px 2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ackground:url(logo_css.png) 20px 0 no-repeat</a:t>
            </a: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h1 img{display:block;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isibility:hidden</a:t>
            </a: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ORIZZONT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58920" y="3357720"/>
            <a:ext cx="842472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menu a tab è realizzato tramite una lista non ordin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disposizione orizzontale dei link è ottenuta attraverso la proprietà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a assegnare sia agli elementi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ia agli elementi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#menuNav{margin:0;padding:0 0 0 2em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#menuNav li{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margin:0;padding:0 1em 0 0;list-style:none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#menuNav li a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padding:0 0.7e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border:2px solid #46724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osition:relative;top:2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358920" y="1628640"/>
            <a:ext cx="4135320" cy="15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4646520" y="1628640"/>
            <a:ext cx="4137120" cy="1544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8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ORIZZONT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bordo inferiore degli element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i sovrappone al bordo inferiore de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#te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ramite il posizionamento rel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#tes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anch’esso flottante, così da contenere interamente gli elementi flottanti al su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tab attiva è selezionata tramite una classe associalta a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adre, e si “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ond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” con l’area sottostante sostituendo il bordo inferiore col padding inferiore e modificando il colore di sfon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46520" y="1700280"/>
            <a:ext cx="41371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#testa{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width:100%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bottom: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2px solid #467241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background:url(…)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#menuNav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i.attiva</a:t>
            </a: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 a{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bottom:none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adding-bottom:2px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background:#FFF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color:#000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’AREA CENT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646520" y="1700280"/>
            <a:ext cx="41371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rea centrale è divisa in due sezioni princip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prima area è suddivisa in ulteriori tre aree, la seconda area è suddivisa in quattro me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div id="corpo"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2&gt;Corpo della ...&lt;/h2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div id="area1"&gt;&lt;/div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div id="area2"&gt;&lt;/div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div id="area3"&gt;&lt;/div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r /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div id="menuSecondario"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2&gt;Caso 1&lt;/h2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ul&gt;&lt;/ul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2&gt;Caso 2&lt;/h2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ul&gt;&lt;/ul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2&gt;Caso 3&lt;/h2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ul&gt;&lt;/ul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h2&gt;Caso 4&lt;/h2&gt;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ul&gt;&lt;/ul&gt;</a:t>
            </a:r>
            <a:br>
              <a:rPr sz="1600"/>
            </a:br>
            <a:r>
              <a:rPr b="0" lang="pt-BR" sz="16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1"/>
          <a:stretch/>
        </p:blipFill>
        <p:spPr>
          <a:xfrm>
            <a:off x="358920" y="2081160"/>
            <a:ext cx="4135320" cy="3919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LET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’AREA CENT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colonne sono realizzate affiancando i box tramite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tratta di due colonne affiancate, di cui la prima è anch’essa suddivisa in ulteriori due col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tecnica è differente a seconda del tipo di layou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yout liquido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yout a larghezza fiss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o elastic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elle prossime diapositive saranno illustrati i casi di layout a tre colonne a larghezza liquida e a larghezza f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SECOND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A LARGHEZZA FISSA A 3 COLONNE CON BOX FLOTT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TTURA DELLA PAGI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fruttando il comportamento dei box flottanti che si dispongono uno di fianco all’altro fin che c’è spazio a disposizione è possibile realizzare layout a col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consideri la seguente struttura piuttosto comu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pagina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testa"&gt;…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c1"&gt;…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c2"&gt;…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c3"&gt;…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piede"&gt;…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TR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istruzioni CSS essenziali so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pagina{ width:7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c1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float:left; width:2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c2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float:left; width:3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c3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float:left; width:2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piede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ear:both; </a:t>
            </a:r>
            <a:r>
              <a:rPr b="1" i="1" lang="en-US" sz="2000" spc="-1" strike="noStrike">
                <a:solidFill>
                  <a:srgbClr val="cc3300"/>
                </a:solidFill>
                <a:latin typeface="Courier New"/>
              </a:rPr>
              <a:t>width:100%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716360" y="1598760"/>
            <a:ext cx="4137120" cy="355896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716360" y="530064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width:100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rregge un baco di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tre colonne terminano là dove terminano i loro contenuti e non c’è modo per imporre che le tre colonne si sviluppino in altezza fino al piè di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1 { background: #99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2 { background: #FF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3 { background: #CC9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4646520" y="2262240"/>
            <a:ext cx="4137120" cy="35589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possibile superare il problema impostando un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mmagi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sfondo per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tale che, se ripetuta verticalmente, disegni le tre colonne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pagina{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   background:#FFF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   url(3COLFIX.gif)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   0 0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   repeat-y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4646520" y="2262240"/>
            <a:ext cx="4137120" cy="35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ora necessario impostare lo sfondo per l’intestazione e il piè di pagina: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piede{background:#CCC}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#testa{background:#CCC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646520" y="1814400"/>
            <a:ext cx="413712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AZIO FRA 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50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distanziare il testo dalle colonne non occorre impostare il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lle colonne stesse, con conseguenti problemi di interpretazione del box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distanza sarà ottenuta impostando il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i paragrafi contenuti nelle colonne stes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50920" y="4724280"/>
            <a:ext cx="8713800" cy="18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1 p, #c2 p, #c3 p, #piede p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margin:0; padding:0.5em 1em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1, #c2, #c3, #piede { padding:0.5em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h1 { font-size:1.2em; margin:0; padding:1em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51972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IZIONE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A LARGHEZZA FISSA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413532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 colonne appaiono su schermo, da sinistra a destra, nell’ordine in cui sono state inserite nel codice X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o non è un vincolo, dato che è possibile traslare le singole colonne tramite la dichiarazione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position: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4643280" y="1628640"/>
          <a:ext cx="4137120" cy="364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628640"/>
                    <a:ext cx="413712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324000" y="5445000"/>
            <a:ext cx="8424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2 { position:relative; left:2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c3 { position:relative; left:-300px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SECOND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LIQUIDO A 3 COLONNE CON BOX FLOTT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lettori indicano al browser quali elementi della pagina si dovranno applicare le dichiarazioni della reg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selettori possono essere essenzialmente di tre ti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755640" y="3860640"/>
            <a:ext cx="7416720" cy="2148120"/>
            <a:chOff x="755640" y="3860640"/>
            <a:chExt cx="7416720" cy="2148120"/>
          </a:xfrm>
        </p:grpSpPr>
        <p:sp>
          <p:nvSpPr>
            <p:cNvPr id="141" name=""/>
            <p:cNvSpPr/>
            <p:nvPr/>
          </p:nvSpPr>
          <p:spPr>
            <a:xfrm>
              <a:off x="2989080" y="4436640"/>
              <a:ext cx="4645080" cy="1572120"/>
            </a:xfrm>
            <a:prstGeom prst="rect">
              <a:avLst/>
            </a:prstGeom>
            <a:solidFill>
              <a:srgbClr val="fffb69">
                <a:alpha val="50000"/>
              </a:srgbClr>
            </a:solidFill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cc3300"/>
                  </a:solidFill>
                  <a:latin typeface="Courier New"/>
                </a:rPr>
                <a:t>h1, h2, p { ... 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cc3300"/>
                  </a:solidFill>
                  <a:latin typeface="Courier New"/>
                </a:rPr>
                <a:t>#identificatore { ... 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cc3300"/>
                  </a:solidFill>
                  <a:latin typeface="Courier New"/>
                </a:rPr>
                <a:t>.classe { ... }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5640" y="3860640"/>
              <a:ext cx="2663640" cy="459720"/>
            </a:xfrm>
            <a:prstGeom prst="wedgeRectCallout">
              <a:avLst>
                <a:gd name="adj1" fmla="val 48324"/>
                <a:gd name="adj2" fmla="val 103986"/>
              </a:avLst>
            </a:prstGeom>
            <a:solidFill>
              <a:srgbClr val="fffff7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: TAG XHTM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11640" y="3931920"/>
              <a:ext cx="3060720" cy="459720"/>
            </a:xfrm>
            <a:prstGeom prst="wedgeRectCallout">
              <a:avLst>
                <a:gd name="adj1" fmla="val -55231"/>
                <a:gd name="adj2" fmla="val 190763"/>
              </a:avLst>
            </a:prstGeom>
            <a:solidFill>
              <a:srgbClr val="fffff7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: IDENTIFICATOR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8720" y="4652640"/>
              <a:ext cx="1727280" cy="459720"/>
            </a:xfrm>
            <a:prstGeom prst="wedgeRectCallout">
              <a:avLst>
                <a:gd name="adj1" fmla="val 87402"/>
                <a:gd name="adj2" fmla="val 178634"/>
              </a:avLst>
            </a:prstGeom>
            <a:solidFill>
              <a:srgbClr val="fffff7"/>
            </a:soli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: CLASS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TTURA DELLA PAGI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agina ha la seguente struttu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pagina"&gt;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&lt;div id="aux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testa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c1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c2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c3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piede"&gt;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 differenza del layout a larghezza fissa, in questo caso è necessario un contenitore ausiliario (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 id="aux"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 il cui scopo è la gestione degli sfondi per le col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lora non ci fosse bisogno di ottenere colonne con differenti sfondi e della medesima altezza, il contenitore ausiliario non occor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TR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358560" y="1698120"/>
            <a:ext cx="4717800" cy="46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istruzioni CSS essenziali son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body { margin:0; padding:0 5%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pagina { width:100%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aux { width:100%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c1 {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left;width:25%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argin: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c2 {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left; width:50%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argin: 0 -2px 0 0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c3 {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right; width:25%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argin: 0 0 0 -2px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piede { clear:both;width:100%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1"/>
          <a:stretch/>
        </p:blipFill>
        <p:spPr>
          <a:xfrm>
            <a:off x="4788000" y="2133720"/>
            <a:ext cx="41367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TR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larghezza del layout non è affidata al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ma al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impostato per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econda e la terza colonna hann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ori contrappost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margini adiacent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mpostati su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valori neg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a soluzione è stata adottata per ovviare a possibil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roblemi di arrotonda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i quali son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ipendendenti dalle dimensioni della finest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nel passaggio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%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TR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esempio di problemi con l’arrotondamento è il seguente: si ipotizzi che la larghezza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a pari 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802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che la larghezza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a pari, rispettivamente, 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25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50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25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element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ovrebbero dunque essere largh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802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×25÷100=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200.5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mentre l’elemento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2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dovrebbe essere larg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802×50÷100=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401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Poiché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il pixel non può essere spaccato in du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, gl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ement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1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c3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aranno larghi no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200.5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201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arghezza totale delle tre colonne diventa dunque par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 201+401+201=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803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la quale supera di </a:t>
            </a: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1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la larghezza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cui la terza colonna (non avendo spazio a sufficienza) si colloca sotto le prime d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TR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ndo margini negativi è possibile assorbire eventuali errori di arrotondamento (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-2p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è un valore di tip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servativ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colonne hann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lori oppos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 la proprietà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 fine di evitare che il margine negativo della prima colonna sposti verso sinistra la seconda colon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er realizzare lo sfondo delle tre colonn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n è possibile usare una sola immagin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oiché la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rghezz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delle colonn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on è più nota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a prior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aranno dunque utilizzate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due immagini separ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che saranno impostate come sfondo di </a:t>
            </a:r>
            <a:r>
              <a:rPr b="1" lang="it-IT" sz="32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cc3300"/>
                </a:solidFill>
                <a:latin typeface="Courier New"/>
              </a:rPr>
              <a:t>#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cordando che uno sfondo posizionato con le percentuali si dispone in modo tale che il punto dell’immagine che si trova alle coordinat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X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Y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sarà posto in posizion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X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Y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area del padding del suo contenitore, sarà sufficiente realizzare due immagin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ui larghezza sia tale da coprire le attuali risoluzioni supportate (ad esempi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4000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cui colorazione sia tale da risultare opache per la percentuale occupata dalla colonna e trasparenti per la restante pa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è scelto di avere colonne laterali larghe il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25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o spazio to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magine per la prima colonna sarà opaca per i prim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1000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 orizzontale) e trasparente per i restant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3000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l rapporto è dunqu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25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immagine per la prima colonna sarà trasparente per i prim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3000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 orizzontale) e opaca per i restant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1000p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l rapporto è dunqu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75%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FONDO DEL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codice da utilizzare per impostare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sfondi è il segu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pagina {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ackground:#FFC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url(3COLLIQ.SX.gif) 25% 0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peat-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aux {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ackground:transparent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url(3COLLIQ.DX.gif) 75% 0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peat-y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noti che il colore di sfondo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pagi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fornisce lo sfondo per la colonna centrale, mentre il colore di sfondo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aux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ve essere trasparente per consentire la visualizzazione dello sfondo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1"/>
          <a:stretch/>
        </p:blipFill>
        <p:spPr>
          <a:xfrm>
            <a:off x="5219640" y="1700280"/>
            <a:ext cx="369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AZIO FRA LE COLON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50036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stanza fra il testo e i bordi delle colonne è il risultato dell’impostazione dei margini con i quali è stata realizzata la struttura a tre col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LAYOUT LIQUIDO A 3 COLONNE CON BOX FLOTT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58920" y="4076640"/>
            <a:ext cx="817380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#piede { background:#CC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#testa { background:#CC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#c1 p,#c2 p,#c3 p { margin:0; padding:0.5em 1em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#piede p { margin:0; padding:0.5em 1em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3300"/>
                </a:solidFill>
                <a:latin typeface="Courier New"/>
              </a:rPr>
              <a:t>#c1, #c2, #c3, #piede { padding:0.5em 0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5622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SECOND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EMPIO PRATICO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conda pa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-181080" y="3789360"/>
            <a:ext cx="9506160" cy="251928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IPI D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selettori più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neric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ono i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lettori di tip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quali specificano che 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o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 essere applicata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utti gli elementi del tipo indica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d esempio, sono selettori di tipo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p {…}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a {…}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div {…}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strong {…}</a:t>
            </a:r>
            <a:br>
              <a:rPr sz="3200"/>
            </a:b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* {…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403280" y="2241720"/>
            <a:ext cx="63342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menu laterali sono realizzati (come quello superiore) tramite liste non ord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h2&gt;Caso 1&lt;/h2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ul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li class="attiva"&gt;&lt;a href="…"&gt;&lt;/a&gt;&lt;/li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li&gt;&lt;a href="…"&gt;&lt;/a&gt;&lt;/li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li&gt;&lt;a href="…"&gt;&lt;/a&gt;&lt;/li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li&gt;&lt;a href="…"&gt;&lt;/a&gt;&lt;/li&g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&lt;/u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ealizzare il menu occorre innanzitutto eliminare la formattazione predefinita delle lis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#menuSecondario li{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margin:0;list-style:none;display:inline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#menuSecondario ul{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margin:0 2em 0 0;padding:0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border:2px #467241; border-style:solid solid none solid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uccessivamente si formatta il box di ogni singolo colleg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#menuSecondario li a{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display:block; 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padding:0 1em;margin:0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border-bottom:2px solid #467241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line-height:1.7em;height:1.7em;</a:t>
            </a:r>
            <a:br>
              <a:rPr sz="2000"/>
            </a:b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codice indicato nella precedente diapositiva prevede alcuni accorgimenti, dettati da alcuni bachi del rendering di Internet Expl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#menuSecondario li{ </a:t>
            </a:r>
            <a:r>
              <a:rPr b="0" i="1" lang="it-IT" sz="2400" spc="-1" strike="noStrike">
                <a:solidFill>
                  <a:srgbClr val="cc3300"/>
                </a:solidFill>
                <a:latin typeface="Courier New"/>
              </a:rPr>
              <a:t>[…]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 display:inline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nza display:inline, si formerebbero degli spazi verticali molto ampi, e ingiustificati, fra le voci del me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#menuSecondario li a{</a:t>
            </a:r>
            <a:br>
              <a:rPr sz="2400"/>
            </a:br>
            <a:r>
              <a:rPr b="0" i="1" lang="it-IT" sz="2400" spc="-1" strike="noStrike">
                <a:solidFill>
                  <a:srgbClr val="cc3300"/>
                </a:solidFill>
                <a:latin typeface="Courier New"/>
              </a:rPr>
              <a:t>[…]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 line-height:1.7em;height:1.7em;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sso Internet Explorer ha problemi nel rendering dei link con dichiarazion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splay:block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rea cliccabile non si espande assieme al bo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Definire l’altezza o la larghezza del link risolve il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possibile sfruttare le pseudo-classi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hov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a:focu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a:acti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creare effett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roll-ov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 senza utilizzare il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con ovvi vantag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#menuSecondario li a:hover,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#menuSecondario li a:focus,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#menuSecondario li a:active{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background: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url(go.gif) #DFECDD 100% 50% no-repeat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color:#000;</a:t>
            </a:r>
            <a:br>
              <a:rPr sz="2800"/>
            </a:br>
            <a:r>
              <a:rPr b="0" lang="it-IT" sz="2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MENU LATERA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 passaggio del mouse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:hov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, selezionando il link attraverso la tastier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:foc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ovvero attivando il collegamento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:activ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appare una piccola freccia di fianco ai colleg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nche il pre-caricamento dell’immagine può essere ottenuto tramite i CSS senza dover ricorrere al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#menuSecondario ul{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background: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url(go.gif) -100px -100px no-repeat;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mmagine è caricata assieme alla pagina poiché richiamata dall’elemento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a non appare poiché posizionata fuori dal box dell’elemento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t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SCONDERE I LINK PER LA NAVIGAZIONE INTERN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nascondere i link utili alla navigazione interna non si è fatto uso della dichiarazione display:none poiché questa potrebbe comportare problemi di accessibilità con gl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creen-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ollegamenti non sono eliminati ma solo nasc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urier New"/>
              </a:rPr>
              <a:t>.pgNav{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urier New"/>
              </a:rPr>
              <a:t>width:0;height:0;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urier New"/>
              </a:rPr>
              <a:t>overflow:hidden;position:absolute;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LA STAMP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i CSS è possibile definire un foglio di stile specifico per la stam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possibile definire caratteri e colori più adatti alla stampa, tenendo sempre presente che, generalmente, i browser sono impostati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stampare gli sfondi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indipendentemente dall’uso dei C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body{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font:10pt georgia,serif;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margin:0;padding:0;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h2 { font:180% "trebuchet ms",arial,sans-serif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Courier New"/>
              </a:rPr>
              <a:t>h3 { font:120% "trebuchet ms",arial,sans-serif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LA STAMP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5365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possibi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vitare la stampa d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ggetti o sezioni del sito che non sia necessario o utile stampare (ad esempio i menu di navigazi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hr,.pgNav,#motore,#menuNav,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#menuSecondario,#chiusura{ display:none;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ando si stampa, è possibile ricorrere a unità di misura assoluta, come, ad esempio, i millime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h1 {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border-bottom:1mm solid #000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5751360" y="1700280"/>
            <a:ext cx="335772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LA STAMP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 realizzare un foglio di stile per la stampa è bene ricordare che layout complessi potrebbero avere problemi quando stamp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esempio, Firefox taglia i box posizionati in modo assoluto che non rientrano interamente in una pagin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CLASS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‘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 servono a caratterizzare un insieme di oggetti omogenei. Per associare un oggetto ad una classe è sufficiente specificarne il nome attraverso l’attributo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 </a:t>
            </a:r>
            <a:r>
              <a:rPr b="1" i="1" lang="it-IT" sz="1800" spc="-1" strike="noStrike">
                <a:solidFill>
                  <a:srgbClr val="cc3300"/>
                </a:solidFill>
                <a:latin typeface="Courier New"/>
              </a:rPr>
              <a:t>class="notizia"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gt;&lt;h1&gt;Titolo&lt;/h1&gt;&lt;p&gt;Testo …&lt;/p&gt;&lt;/div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 </a:t>
            </a:r>
            <a:r>
              <a:rPr b="1" i="1" lang="it-IT" sz="1800" spc="-1" strike="noStrike">
                <a:solidFill>
                  <a:srgbClr val="cc3300"/>
                </a:solidFill>
                <a:latin typeface="Courier New"/>
              </a:rPr>
              <a:t>class="notizia altraClasse"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gt;&lt;h1&gt;Titolo&lt;/h1&gt;&lt;p&gt;Testo …&lt;/p&gt;&lt;/div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elettore si indica riportand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lore assegnato all’attributo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ceduto da un pu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.notizia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È possibile combinare fra loro più classi: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 </a:t>
            </a:r>
            <a:r>
              <a:rPr b="1" i="1" lang="it-IT" sz="1800" spc="-1" strike="noStrike">
                <a:solidFill>
                  <a:srgbClr val="cc3300"/>
                </a:solidFill>
                <a:latin typeface="Courier New"/>
              </a:rPr>
              <a:t>class="classe1 classe2"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gt;…&lt;/div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.classe1.classe2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elettore può anc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cific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quale elemento la classe deve essere associata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.classe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h1.classe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PALMA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almari e cellulari sono in grado di supportare, seppure in modo limitato i 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lti browser non fanno distinzioni fra CSS per il med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andhel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quello per il med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c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conseguenza pratica si ha che conviene assegnare il foglio di stile per il med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cre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nche al medi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andh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&lt;link rel="stylesheet" type="text/css"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media="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creen, handheld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"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href="file/screen.css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&lt;link rel="stylesheet" type="text/css" media="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andheld</a:t>
            </a: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"</a:t>
            </a:r>
            <a:br>
              <a:rPr sz="2400"/>
            </a:br>
            <a:r>
              <a:rPr b="0" lang="it-IT" sz="2400" spc="-1" strike="noStrike">
                <a:solidFill>
                  <a:srgbClr val="cc3300"/>
                </a:solidFill>
                <a:latin typeface="Courier New"/>
              </a:rPr>
              <a:t>href="file/handheld.css" 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PALMA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l realizzare il foglio di stile per il palmare, quando si è scelto di associare il foglio di stile per il media screen anche al media handheld, occorre ricordare che le regole pensate per i normali computer saranno anche interpretate dai palm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te delle dichiarazioni inserite per generare il layout per la navigazione tramite PC non saranno adatte anche al palmare e andranno sovra scri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6520" y="1700280"/>
            <a:ext cx="41371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/* </a:t>
            </a:r>
            <a:r>
              <a:rPr b="0" i="1" lang="it-IT" sz="2000" spc="-1" strike="noStrike">
                <a:solidFill>
                  <a:srgbClr val="cc3300"/>
                </a:solidFill>
                <a:latin typeface="Courier New"/>
              </a:rPr>
              <a:t>screen.css</a:t>
            </a: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 */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#corpo{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width:70%;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rgin-right:-2px;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padding:1em 0;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/* </a:t>
            </a:r>
            <a:r>
              <a:rPr b="0" i="1" lang="it-IT" sz="2000" spc="-1" strike="noStrike">
                <a:solidFill>
                  <a:srgbClr val="cc3300"/>
                </a:solidFill>
                <a:latin typeface="Courier New"/>
              </a:rPr>
              <a:t>handheld.css</a:t>
            </a:r>
            <a:r>
              <a:rPr b="0" lang="it-IT" sz="2000" spc="-1" strike="noStrike">
                <a:solidFill>
                  <a:srgbClr val="cc3300"/>
                </a:solidFill>
                <a:latin typeface="Courier New"/>
              </a:rPr>
              <a:t> */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#corpo{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float:none;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width:auto;</a:t>
            </a:r>
            <a:br>
              <a:rPr sz="2000"/>
            </a:b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margin-right:0;</a:t>
            </a:r>
            <a:br>
              <a:rPr sz="2000"/>
            </a:br>
            <a:r>
              <a:rPr b="0" lang="en-US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O DI STILE PER PALMA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4646520" y="2081160"/>
            <a:ext cx="4137120" cy="3921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1293840" y="1700280"/>
            <a:ext cx="2263680" cy="468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lcuni requisiti della legge chiamano in causa, direttamente o indirettamente, i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esempio proposto è stato realizzato tenendo a mente tali 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template, tuttavia, è coinvolto, per sua stessa natura, solo in un sotto insieme dei requisiti; questo sottoinsieme comprende anche, ma non solo, requisiti che coinvolgono i C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quisito n. 1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nunciato: […] Utilizzare elementi ed attributi in modo conforme alle specifiche, rispettandone l’aspetto semantico. […] evitare di utilizzare, all’interno del linguaggio a marcatori con il quale la pagina è realizzata, elementi ed attributi per definirne le caratteristiche di presentazione della pagina […] ricorrendo invece ai Fogli di Stile CSS (Cascading Style Sheets) per ottenere lo stesso effetto graf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enunciato indica implicitamente (rispetto dell’aspetto semantico) e direttamente che per formattare una pagina è bene utilizzare i C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n. 4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unciato: Garantire che tutti gli elementi informativi e tutte le funzionalità siano disponibili anche in assenza del particolare colore utilizzato per presentarli nella pag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 bene evitare di affidare ai CSS in generale e al colore in particolare un’inform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d esempio si elimina la sottolineatura ai link differenziandoli dal testo solo per il colore si corre il rischio di violare il requis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93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quisito n. 6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nunciato: Garantire che siano sempre distinguibili il contenuto informativo (foreground) e lo sfondo (background), ricorrendo a un sufficiente contrasto (nel caso del testo) […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si definisce un colore per il testo (o lo sfondo) è bene verificare quali colori potrebbe ereditare lo sfondo (o il tes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" descr=""/>
          <p:cNvPicPr/>
          <p:nvPr/>
        </p:nvPicPr>
        <p:blipFill>
          <a:blip r:embed="rId1"/>
          <a:stretch/>
        </p:blipFill>
        <p:spPr>
          <a:xfrm>
            <a:off x="6141960" y="1557360"/>
            <a:ext cx="2894040" cy="3208320"/>
          </a:xfrm>
          <a:prstGeom prst="rect">
            <a:avLst/>
          </a:prstGeom>
          <a:ln w="0">
            <a:noFill/>
          </a:ln>
        </p:spPr>
      </p:pic>
      <p:pic>
        <p:nvPicPr>
          <p:cNvPr id="720" name="" descr=""/>
          <p:cNvPicPr/>
          <p:nvPr/>
        </p:nvPicPr>
        <p:blipFill>
          <a:blip r:embed="rId2"/>
          <a:srcRect l="0" t="0" r="55742" b="19903"/>
          <a:stretch/>
        </p:blipFill>
        <p:spPr>
          <a:xfrm>
            <a:off x="5397480" y="3933720"/>
            <a:ext cx="2846520" cy="2576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n. 9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unciato: Per le tabelle dati usare gli elementi (marcatori) e gli attributi previsti dalla DTD adottata per descrivere i contenuti e identificare le intestazioni di righe e colon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rispetto di questo requisito permette di sfruttare i CSS per formattare al meglio elementi strutturali quali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CA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sito n. 11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unciato: Usare i fogli di stile per controllare la presentazione dei contenuti e organizzare le pagine in modo che possano essere lette anche quando i fogli di stile siano disabilitati o non support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 errore piuttosto comune è utilizzare i CSS senza tuttavia aver realmente separato i contenuti dalla loro formattazione: molte pagine realizzate con i CSS fanno u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so impropri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l’elemento DIV trascurando del tutto la struttura dell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sito n.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unciato: La presentazione e i contenuti testuali di una pagina devono potersi adattare alle dimensioni della finestra del browser utilizzata dall’utente senza sovrapposizione degli oggetti presenti o perdita di informazioni tali da rendere incomprensibile il contenuto, anche in caso di ridimensionamento, ingrandimento o riduzione dell’area di visualizzazione o dei caratteri rispetto ai valori predefiniti di tali parame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SS sono coinvolti indirettamente; il dibattito si concentra sulla possibilità o meno di utilizzare layout a larghezza fis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-181080" y="2492280"/>
            <a:ext cx="9506160" cy="72072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DENTIFICA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‘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dentific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 selezionano invece un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ggetto unic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ll’interno della pagina. L’associazione avviene tramite l’attributo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 </a:t>
            </a:r>
            <a:r>
              <a:rPr b="1" i="1" lang="it-IT" sz="1800" spc="-1" strike="noStrike">
                <a:solidFill>
                  <a:srgbClr val="cc3300"/>
                </a:solidFill>
                <a:latin typeface="Courier New"/>
              </a:rPr>
              <a:t>id="testata"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gt;&lt;h1&gt;Titolo&lt;/h1&gt;&lt;p&gt;Testo ...&lt;/p&gt;&lt;/div&gt;</a:t>
            </a:r>
            <a:br>
              <a:rPr sz="1800"/>
            </a:b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TTENZIONE: è errato associare lo stesso identificatore a due o più oggetti nella stessa pa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elettore si indica riportando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valore assegnato all’attributo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i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ceduto dal simbolo cancellet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’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testata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selettore può anch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pecific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 quale elemento l’identificatore deve essere associato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#testata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h1#testata {…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lassi e identificatori possono essere usati contemporaneamente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 </a:t>
            </a:r>
            <a:r>
              <a:rPr b="1" i="1" lang="it-IT" sz="1800" spc="-1" strike="noStrike">
                <a:solidFill>
                  <a:srgbClr val="cc3300"/>
                </a:solidFill>
                <a:latin typeface="Courier New"/>
              </a:rPr>
              <a:t>id="idval" class="classval"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#idval.classval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equisito n.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nunciato: […] per facilitare la selezione e l’attivazione dei collegamenti presenti in una pagina è necessario garantire che la distanza verticale di liste di link e la spaziatura orizzontale tra link consecutivi sia di almeno 0,5 em, le distanze orizzontale e verticale tra i pulsanti di un modulo sia di almeno 0,5 em e che le dimensioni dei pulsanti in un modulo siano tali da rendere chiaramente leggibile l’etichetta in essi contenu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involge indirettamente i CSS, ma non è chiaro se la distanza indicata comprenda tutta l’area sensibile del link o solamente il 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GE 04/2004 E CS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ESEMPIO PRA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verifica tecnica comprende la seguente analisi: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5) i contenuti della pagina siano fruibili in caso di utilizzo delle funzioni previste dai browser per definire la grandezza dei caratter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punto non è affatto chiaro: vorrebbe indicare di non utilizzare i pixel per dimensionare i caratteri (per il noto problema di Internet Explorer per Windows) tuttavia il testo non afferma ci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 POCO DI PUBBLICITÀ ;-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1"/>
          <a:stretch/>
        </p:blipFill>
        <p:spPr>
          <a:xfrm>
            <a:off x="108000" y="1700280"/>
            <a:ext cx="3327480" cy="46828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492360" y="1700280"/>
            <a:ext cx="52912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ine: 5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o: 17 x 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BN: 88-503-2369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apogeonline.com/libri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-503-2369-7/sche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ONSIGLI PER GLI ACQUI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SEUDO-CLASS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seudo-class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reano delle distinzioni ne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iversi st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un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tess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lemento. Ad esempio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:first-child {…}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dentifica il primo paragrafo figlio di un qualsiasi elemento padre: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p&gt;paragrafo first-child&lt;/p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p&gt;altro paragrafo&lt;/p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ZIONE AI C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SEUDO-CLASS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e sole pseudo-classi supportate dai browser più diffusi sono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link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visited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hover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focus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:active {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’ordine con cui sono scritte le precedenti regole è importante per il pieno supporto con i diversi brows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SEUDO-ELEME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pseudo-elemen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elezionano una sotto parte di un dato elemento. Ad esempio: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:first-letter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p:first-line {…}</a:t>
            </a:r>
            <a:br>
              <a:rPr sz="2800"/>
            </a:b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dentificano rispettivamente l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rima letter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l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rima rig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 un paragra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supporto da parte dei browser più datati è scar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SCENDEN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l selettore di discende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mette di individuare un elemento in base agli elementi suoi progenitori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h1&gt;Lorem </a:t>
            </a:r>
            <a:r>
              <a:rPr b="1" i="1" lang="it-IT" sz="2400" spc="-1" strike="noStrike">
                <a:solidFill>
                  <a:srgbClr val="cc3300"/>
                </a:solidFill>
                <a:latin typeface="Courier New"/>
              </a:rPr>
              <a:t>&lt;strong&gt;ipsum&lt;/strong&gt;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mea sale&lt;/h1&gt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p&gt;Lorem </a:t>
            </a:r>
            <a:r>
              <a:rPr b="1" i="1" lang="it-IT" sz="2400" spc="-1" strike="noStrike">
                <a:solidFill>
                  <a:srgbClr val="cc3300"/>
                </a:solidFill>
                <a:latin typeface="Courier New"/>
              </a:rPr>
              <a:t>&lt;strong&gt;ipsum&lt;/strong&gt;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mea sale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possibile individuare i due differenti elementi indicando, oltre al tipo dell’elemento a cui si vuole applicare la regola, anche il tipo di uno o più elementi progenitori:</a:t>
            </a:r>
            <a:br>
              <a:rPr sz="2400"/>
            </a:br>
            <a:r>
              <a:rPr b="1" i="1" lang="it-IT" sz="2400" spc="-1" strike="noStrike">
                <a:solidFill>
                  <a:srgbClr val="cc3300"/>
                </a:solidFill>
                <a:latin typeface="Courier New"/>
              </a:rPr>
              <a:t>h1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strong {…}</a:t>
            </a:r>
            <a:br>
              <a:rPr sz="2400"/>
            </a:br>
            <a:r>
              <a:rPr b="1" i="1" lang="it-IT" sz="2400" spc="-1" strike="noStrike">
                <a:solidFill>
                  <a:srgbClr val="cc3300"/>
                </a:solidFill>
                <a:latin typeface="Courier New"/>
              </a:rPr>
              <a:t>p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strong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SCENDEN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possibile indicar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uno o più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rogenitori: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nomeId ul li.nomeClasse a {…}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possibile indicare un elemento progenitore d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qualsiasi grad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non solo l’elemento padre: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ul&gt;&lt;li&gt;</a:t>
            </a:r>
            <a:r>
              <a:rPr b="1" i="1" lang="it-IT" sz="2800" spc="-1" strike="noStrike">
                <a:solidFill>
                  <a:srgbClr val="cc3300"/>
                </a:solidFill>
                <a:latin typeface="Courier New"/>
              </a:rPr>
              <a:t>&lt;a&gt;Lorem ipsum&lt;/a&gt;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/li&gt;&lt;/ul&gt;</a:t>
            </a:r>
            <a:br>
              <a:rPr sz="2800"/>
            </a:br>
            <a:r>
              <a:rPr b="1" i="1" lang="it-IT" sz="2800" spc="-1" strike="noStrike">
                <a:solidFill>
                  <a:srgbClr val="cc3300"/>
                </a:solidFill>
                <a:latin typeface="Courier New"/>
              </a:rPr>
              <a:t>ul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a {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LETTORE FIGLI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ttore figl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ecifica un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entela diret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adre-figlio) tra due ele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elettore che rappresenta il padre e il selettore che rappresenta il figlio sono separati dal carattere ‘&gt;’.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div &gt; p {…}</a:t>
            </a:r>
            <a:br>
              <a:rPr sz="2400"/>
            </a:b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div p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ima regola si applica a tutti i paragrafi che sono direttamente contenuti in un elemento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ntre la seconda regola si applica a tutti i paragrafi contenuti in un elemento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dipendentemente dal grado di discenden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selettore figlio non è supportato da Internet Explorer 6 e precedenti per Windows e Ma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LETTORE FRATELL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lettore fratell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pecifica la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fratellanz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due ogget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infatti individuare un elemento in base al fratello immediatamente precedente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h1&gt;Lorem ipsum&lt;/h1&gt;</a:t>
            </a:r>
            <a:br>
              <a:rPr sz="2400"/>
            </a:br>
            <a:r>
              <a:rPr b="1" i="1" lang="it-IT" sz="2400" spc="-1" strike="noStrike">
                <a:solidFill>
                  <a:srgbClr val="cc3300"/>
                </a:solidFill>
                <a:latin typeface="Courier New"/>
              </a:rPr>
              <a:t>&lt;p&gt;Atqui numquam singulis his …&lt;/p&gt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p&gt;Stet invenire nam no. Quando …&lt;/p&gt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p&gt;Sint oblique maluisset duo ut. …&lt;/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possibile individuare il primo paragrafo, inserito subito dopo l’elemento h1, indicando i due elementi separati dal carattere ‘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+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1 + p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lettore figlio non è supportato da Internet Explorer 6 e precedenti per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LETTORI DI ATTRIBU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elettore di attributi permette di individuare un elemento in base ad un qualsiasi suo attribu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[att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erifica semplicemente se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t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stato impostato, il valore assunto dall’attributo stesso non è rilev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[att=val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erifica se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t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ssume esattamente il valor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[att~=val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erifica se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t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ssume come valore una serie di parole separate da spazi, una delle quali è esattament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[att|=val]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verifica se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t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l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ssume come valore una lista di parole separate da un trattino, la prima delle quali è esattament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a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utile per i codici di lingua, che hanno la forma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n-e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en-u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ecceter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LETTORI DI ATTRIBU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[accesskey]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[rel=glossary]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[title~=esempio]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a[hreflang|=en] {…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recedenti selettori possono corrispondere, rispettivamente, ai seguenti oggetti XHTM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accesskey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="0" …&gt;…&lt;/a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ppure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accesskey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="k" …&gt;…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rel="glossary"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…&gt;…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title=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"titolo di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esempio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" …&gt;…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rel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="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en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" …&gt;…&lt;/a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ppure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rel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="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en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-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en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" …&gt;…&lt;/a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ovvero 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a 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rel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="</a:t>
            </a:r>
            <a:r>
              <a:rPr b="1" i="1" lang="it-IT" sz="2000" spc="-1" strike="noStrike">
                <a:solidFill>
                  <a:srgbClr val="cc3300"/>
                </a:solidFill>
                <a:latin typeface="Courier New"/>
              </a:rPr>
              <a:t>en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-us" …&gt;…&lt;/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LETTORI DI ATTRIBU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noti che classi e selettori di tipo ID sono u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aso particolar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elettore di attribu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lett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*[class~=nomeClasse]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rrisponde al selett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.nomeClass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selett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*[id=identificatore]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rrisponde al selett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identificato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elettori di attribut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arebber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lto utili, soprattutto per distinguere i diversi tipi di campi input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ype="text"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ype="radio"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ype="submit"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selettori di attributo non sono compatibili con Internet Explorer versione 6 e preced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AGGRUPPAMENTO D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pesso può essere utile associare una regola a più selettori contemporane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fare ciò è possibile utilizzare un insieme di selettori separati da una virgola, come indicato nel seguente blocco di codice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h1, #id, div p.classe {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iù selettori separati da un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pazi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stituiscono un selettore che indica un rapporto d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iscendenz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entre più selettori separati da un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virgol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hanno un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regola in com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FORMAZIONE E PRESENTAZION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 scopo di una pagina web è, essenzialmente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smis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’informazione è costituita d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ue aspet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senzi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t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ntenuti sono forniti attraverso linguaggi di marcatura c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atterizzan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var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gget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documento (titoli, liste, paragrafi, collegamenti 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ormattazione è determinata dall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z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 ut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NTRODUZIONE AI 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ECIFICITÀ DE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o più regole, anche con selettori differenti, possono riferirsi all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esso ogget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quando ciò accade le due o più rego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 applicano contemporanea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tavia alcune dichiarazioni possono essere in conflitto, motivo per cui esistono delle norme per calcolare 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orità delle rego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regola assume maggiore priorità quanto più elevata è l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ficità del suo selett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specificità di un selettore si basa sul numero e sul tipo d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ettori di b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e costituiscono il selett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ECIFICITÀ DE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specificità del selettore è rappresentata da un numero a tre cifre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così determina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= numero di attributi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i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resenti nel selettore della regola (numero di selettori di tipo ID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= numero degli attributi differenti da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id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essenzialmente le classi) e di pseudo classi presenti nel selettore della regol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= numero di selettori di tipo e di pseudo-elementi presenti nel selettore della rego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PECIFICITÀ DEI SELETT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SELETT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elettore           Pesi          Specific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*             {…}   A=0 B=0 C=0           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i            {…}   A=0 B=0 C=1    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i:first-line {…}   A=0 B=0 C=2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l li         {…}   A=0 B=0 C=2   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l ol+li      {…}   A=0 B=0 C=3          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1 + *[rel=up]{…}   A=0 B=1 C=1    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ul ol li.red  {…}   A=0 B=1 C=3           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i.elm.level  {…}   A=0 B=2 C=1           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xyz          {…}   A=1 B=0 C=0          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GARE I CSS A UN DOCUMENTO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LEGARE I CSS A UN DOCUMENTO XHTM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Esistono diversi modi di collegare un foglio di stile ad un documento 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gli di stile incorpor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gli di stile ester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ogli di stile import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ributo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styl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p style="font-weight:bold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iorità della regola è massima, indipendentemente dal peso dei selet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esto metodo è sconsigl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LEGARE I CSS A UN DOCUMENTO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 DI STILE INCORPORA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specificano gli stili direttamente nel codice XHTML attraverso il tag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style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a inserire nel tag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head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style type="text/css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/*&lt;![CDATA[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/*]]&gt;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/styl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stringh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/*&lt;![CDATA[*/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/*]]&gt;*/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rvono  a rispettare le regole dell’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o metodo è adatto per pagine singole in cui è necessario specificare stili partic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LEGARE I CSS A UN DOCUMENTO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 DI STILE ESTER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fogli di stile esterni sono richiamati attraverso i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link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 inserire ne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head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head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link rel="stylesheet"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  href="file.css" type="text/css" /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/head&gt;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raverso il tag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&lt;link&gt;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possibile associare diversi fogli di stile contemporanea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LEGARE I CSS A UN DOCUMENTO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GLI DI STILE IMPORTA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raverso la regol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ossibile includere un foglio di stile esterno all’interno di un insieme di reg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presenti, le regol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ev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sere inserit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ima delle normali rego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gli sti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 "file1.css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 "file2.css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dy {…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percorso si riferisce alla medesima cartella in cui è contenuto il foglio di stile contenente le regol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regol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@impor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ossono comparire anche negli stili incorpor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COLLEGARE I CSS A UN DOCUMENTO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DIA ALTERNATIV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possibile specificare un particolare foglio di stile per diversi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ural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browser voc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rail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dispositivi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mbosse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tampanti br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handheld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dispositivi palm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in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stamp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jectio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roiet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cre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monitor dei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ty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dispositivi a carattere fisso (tele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v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televisori e aff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MEDIA ALTERN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DIA ALTERNATIV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specificare il media a cui associare il foglio di stile è possibile utilizzare tre metod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ola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import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import url(schermo.css) screen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import url(stampante.css) pr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metod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on è supporta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a Internet Explo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regola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med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media print {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body { font:100% Arial, sans-serif 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@media screen {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body { font:12pt Times, serif }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g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nk /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l codice XHTML: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nk rel="stylesheet" type="text/css"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edia="print" href="p.css" /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nk rel="stylesheet" type="text/css"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	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edia="screen" href="s.css" 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MEDIA ALTERN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WSER E STIL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ni browser ha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ppresentazione predefini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gli oggetti della pagina: il browser ha un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le predefin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 cui l’utente (ma non l’autore) pu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veni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minima pa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permettere agli autori di avere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ggiore control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lla rappresentazione dei contenuti, sono nati marcatori (come ad esempio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fo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il cui scopo non era più caratterizzare gli oggetti del documento, ma fornire una formattazione degli stes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ntenuti risultano indissolubilmente legati alla loro rappresentazione gra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NTRODUZIONE AI 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ILI ALTERNATIV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istono tre tipi di foglio di stile colleg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gli di stile perman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sempre a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gli di stile preferiti: divengono preferiti i fogli di stile a cui è associato un valore per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it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l tag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ttivi al momento di caric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disattivati quando l’utente sceglie uno stile alternativo (tramite gli appositi menu dei browser più evolu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gli di stile alternativi: divengono alternativi i fogli di stile quelli collegati tramite tag tag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/&gt;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ui è associato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el="alternate stylesheet"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d un valore per l’attribu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it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sono attivi al momento di caricare la pag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ttivati quando l’utente sceglie lo stile altern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STILI ALTERN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ILI ALTERNATIV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empio: </a:t>
            </a: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www.zeldma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style type="text/css" media="all"&gt;@import "/c/c04.css";&lt;/sty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 rel="alternate stylesheet" type="text/css" media="all" title="darker" href="/c/darker.css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 rel="alternate stylesheet" type="text/css" media="all" title="lighter" href="/c/lighter.css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0" t="0" r="28718" b="-3046"/>
          <a:stretch/>
        </p:blipFill>
        <p:spPr>
          <a:xfrm>
            <a:off x="4646520" y="1773360"/>
            <a:ext cx="4318200" cy="4189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2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STILI ALTERN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ILI ALTERNATIV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i browser che non supportano gli stili alternativi (come Internet Explorer) è tuttavia possibile usare il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rete si trovano decine di script (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http://www.alistapart.com/articles/alternate/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principio è quello di agire sulla proprietà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disabl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’oggetto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nk/&gt;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tramite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unction setActiveStyleSheet(title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var i, a, mai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or(i=0; (a=document.getElementsByTagName("link")[i]); i++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if(a.getAttribute("rel").indexOf("style") != 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  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amp;&amp; a.getAttribute("title"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a.disabled = tru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 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if(a.getAttribute("title") == title) a.disabled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  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STILI ALTERN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VAL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ROLE CHIAVE: INHERI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ola chiave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inher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l valore da assegnare alla proprietà deve ess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redita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un elemento progenitore per il quale la proprietà è stata specific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cune proprietà assumono automaticamente il valore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inher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la loro definizione è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mplicitamen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rivata dal più prossimo elemento progenitore per il quale la proprietà è s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ROLE CHIAVE: AU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arola chiave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dica esplicitamente che il programma utente dovrà utilizzare il valore predefinito previsto per quella specifica proprietà a cui il valore auto è stato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assegna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lcuni casi, i diversi programmi utente possono avere valori predefiniti differenti per determinate proprie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valore predefinito di una proprietà dipende anche dall’oggetto a cui la proprietà è applic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ttavia tale valore è utile per sovra scrivere impostazioni di un’altra regola il cui selettore si riferisce al medesimo elemento, ovvero per sovra scrivere valori eredi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ROLE CHIAVE: DIMENSIONE CARATTE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i assol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dicano una dimensione di carattere predefinita, la quale vari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n base al tipo e alle impostazioni dei diversi programmi ut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possibili valori sono: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xx-sma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x-sma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small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medium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arg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x-larg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xx-larg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imensioni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Hanno come riferimento la dimensione dei caratteri dell’elemento 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possibili valori sono: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arg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small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UNGHEZZ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ità di misura rel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ari alla dimensione dei caratte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ari alla dimensione del carattere ‘x’ (ra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ixel, la loro dimensione dipende dallo scher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ità di misura assolu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i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ollici (1in = 2.54 cm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unti (nei CSS 2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1p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1/72i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picas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1pc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12p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unità di misura relative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on posso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ssere ricondotte direttamente ai metri senza considerare altri fattori, come ad esempio dimensione e risoluzione dello scher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 PERCENTUAL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ercentuali sono costituite da un numero (non necessariamente intero) positivo, negativo o nullo, seguito immediatamente, senza alcuno spazio, dal simbolo ‘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 percentuali dipendono, ovviamente, da un valore di riferimento che può variare in base alla proprietà a cui si vuole assegnare il val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ggetto di riferimento può essere lo stesso oggetto stesso puntato dal selettore, ovvero l’oggetto pad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IFERIME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"http://sito/file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http://sito/fil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"/file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/f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"../file"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url(../file)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*  il percorso si riferisce al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artella in cui è collocato il foglio di sti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non alla cartella in cui è collocata la pagina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81080" y="3068640"/>
            <a:ext cx="9506160" cy="144000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FOGLI DI STILE A CASCATA (CSS)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Compito dei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S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Cascading Style Sheets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Fogli di Stile a Cascata) è ripristinare la separazione dei contenuti e dalla formattazio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 CSS possono essere visti come l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rumen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la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parte dell’autor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egli stili predefiniti del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-14724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I CSS non definiscono direttamente l’aspetto del documento ma </a:t>
            </a:r>
            <a:r>
              <a:rPr b="1" i="1" lang="it-IT" sz="2800" spc="-1" strike="noStrike">
                <a:solidFill>
                  <a:srgbClr val="000000"/>
                </a:solidFill>
                <a:latin typeface="Arial"/>
              </a:rPr>
              <a:t>stabiliscono il modo in cui il browser rappresenta i vari oggetti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 definiti dal linguaggio di marcatura utilizza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NTRODUZIONE AI 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LOR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Nomi predefiniti: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lack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gre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Valori R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rrggbb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,g,b = {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rgb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,g,b = {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}) corrisponde a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rrgg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gb(r,g,b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,g,b = {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255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}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gb(r%,g%,b%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(r,g,b = {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0.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÷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100.0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er esempio, i valori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qu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00FFFF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0FF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gb(0,255,255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gb(0,100%,100%)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si riferiscono tutti al medesimo color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verde acqu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 VAL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BOX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BOX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box è caratterizzato 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rghezza dello spazio per i contenuti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ezza dello spazio per i contenuti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azio fra contenuti e bordi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rdo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rde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azio fra il bordo e gli altri oggetti della pagin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786200" y="2517840"/>
            <a:ext cx="3857760" cy="30477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5589720"/>
            <a:ext cx="4249800" cy="79200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BOX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&gt;Ex nostrum … &lt;/div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&gt;Indoctum … 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bod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margin: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padding: 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div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width:300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adding:10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border:5px solid #60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margin: 20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i noti che i margini superiori e inferiori adiacenti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llass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856040" y="1700280"/>
            <a:ext cx="37180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BOX MODEL: IL PROBLEMA DI IE5.x/WI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Internet Explorer per Windows versione 5.5 e precedenti ha un modo 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differente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di interpretare il box model: anziché aggiungere il </a:t>
            </a:r>
            <a:r>
              <a:rPr b="1" lang="it-IT" sz="2200" spc="-1" strike="noStrike">
                <a:solidFill>
                  <a:srgbClr val="cc3300"/>
                </a:solidFill>
                <a:latin typeface="Courier New"/>
                <a:ea typeface="Arial"/>
              </a:rPr>
              <a:t>padding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e il </a:t>
            </a:r>
            <a:r>
              <a:rPr b="1" lang="it-IT" sz="2200" spc="-1" strike="noStrike">
                <a:solidFill>
                  <a:srgbClr val="cc3300"/>
                </a:solidFill>
                <a:latin typeface="Courier New"/>
                <a:ea typeface="Arial"/>
              </a:rPr>
              <a:t>border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 alla larghezza dei contenuti, toglie spazio ai contenu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La larghezza totale del box (bordi e padding compresi) è pari al valore assegnato alla proprietà </a:t>
            </a:r>
            <a:r>
              <a:rPr b="1" lang="it-IT" sz="2200" spc="-1" strike="noStrike">
                <a:solidFill>
                  <a:srgbClr val="cc3300"/>
                </a:solidFill>
                <a:latin typeface="Courier New"/>
                <a:ea typeface="Arial"/>
              </a:rPr>
              <a:t>width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86200" y="2517840"/>
            <a:ext cx="385776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BOX MODEL: IL PROBLEMA DI IE5.x/WI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ovviare al problema ci sono essenzialmente due meto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evita di specificare contemporaneamente le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/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Dove possibile si cerca di sfruttare due box contenuti uno nell’altro (ad esempio un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i paragrafi al suo inter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specifica separatamente il valore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IE/Win 5.x e per gli altri browser, ad esempio attraverso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ommenti condizion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*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 rel="stylesheet" href="css/standard.css" type="text/css" /&gt;</a:t>
            </a:r>
            <a:br>
              <a:rPr sz="2000"/>
            </a:br>
            <a:r>
              <a:rPr b="1" lang="it-IT" sz="2000" spc="-1" strike="noStrike">
                <a:solidFill>
                  <a:srgbClr val="434343"/>
                </a:solidFill>
                <a:latin typeface="Courier New"/>
              </a:rPr>
              <a:t>&lt;!--[if lt IE 6]&gt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link rel="stylesheet" href="css/ie.css" type="text/css" /&gt;</a:t>
            </a:r>
            <a:br>
              <a:rPr sz="2000"/>
            </a:br>
            <a:r>
              <a:rPr b="1" lang="it-IT" sz="2000" spc="-1" strike="noStrike">
                <a:solidFill>
                  <a:srgbClr val="434343"/>
                </a:solidFill>
                <a:latin typeface="Courier New"/>
              </a:rPr>
              <a:t>&lt;![endif]--&gt;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434343"/>
                </a:solidFill>
                <a:latin typeface="Courier New"/>
              </a:rPr>
              <a:t>*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if: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http://msdn.microsoft.com/workshop/author/dhtml/overview/ccomment_ovw.as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07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RGHEZZA E ALTEZ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si specifica la larghezz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dei contenuti del box, questo si allargherà (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margini compres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p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empi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utto lo spazio a sua dis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non si specifica la altezza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 dei contenuti del box, questo si espanderà in verticale 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inimo possibi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spitare gli oggetti al suo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larghezza e la altezza del box possono essere espres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ercentuali rispetto alle dimensioni del box conten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le unità di miusra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ex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ramite il val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RGHEZZA E ALTEZ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Quando si specifica la larghezza di un box, questa diviene indipendente dalla dimensione effettiva dei suoi contenu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ernet Explorer per Windows in realtà allarga il box quando i suoi contenuti (ad esempio un’immagine o una stringa molto lunga) eccedono la larghezza del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possibile anche indicare una larghezza minima e una larghezza massima tramite le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min-widt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e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 max-widt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a Internet Explorer (Win/Mac) non supporta tali proprie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-181080" y="5227560"/>
            <a:ext cx="9506160" cy="108108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ARGHEZZA E ALTEZZ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si specifica l’altezza di un box quest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on si espander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ospitare eventuali contenuti che richiedono maggiore spa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ottenere un simile comportamento esiste infatti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in-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ma questa non è supportata né da Internet Explorer né da Safari. Esiste anche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x-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ma presenta le stesse incompatibilità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in-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meno di altre dichiarazioni, IE/Win interpreta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come foss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in-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espressa in ‘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%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, l’altezza di un box si riferisce all’altezz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splicitame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 box genitore, quando definita tramite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margini possono essere specific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coppie (top/bottom, right/l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ob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unità di misura sono le stesse utilizzate per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e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d hanno il medesimo comportamento, trann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specificare i singoli margini è possibile utilizzare le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-top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-r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-bottom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-left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o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v { margin-left:1em; margin-top:2em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quattro margini possono essere specificati anche attraverso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ntassi abbrevi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 { margin : 10px 5px 0 20px }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margini risultano specificati i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nso ora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raverso la sintassi abbreviata, possiamo specificare anche le coppie di margin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#id { margin : 1em 2em }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ine è possibile specificare un solo valore per tutti e quattro i lati contemporaneamente: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.classe { margin: 1em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impostati sul valore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margini laterali determinano l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entratura orizzontale del bo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cui i margini sono applic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troppo Internet Explor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n suppor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o tipo di centratura orizzontale, per cui richiede una tecnica differ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o impostati sul valore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 margini superiore e inferiore assumono il valore che il browser assegna loro norm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lle specifiche CSS non è prevista la centratura verticale dei bloc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due o più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rgini son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adiacen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ovverosia sono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non separati da bordi o 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quest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llassan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un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unic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rg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box-1"&gt;…&lt;/div&gt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 id="box-2"&gt;…&lt;/div&gt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box-1 { margin: 1em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box-2 { margin: 2em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2260440" y="4118040"/>
            <a:ext cx="4621320" cy="22651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58920" y="1699920"/>
            <a:ext cx="842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margini non collassano quando sono separati da un bordo o dal pad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&gt;Lorem ipsum dolor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div&gt;&lt;p&gt;Quisque imperdiet …&lt;/p&gt;&lt;/div&gt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{border:solid;margin:0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{margin:1em 0;background:#CCC;color:#000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 p{margin:1em;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468360" y="4525920"/>
            <a:ext cx="3543120" cy="142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9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1640" y="4519440"/>
            <a:ext cx="4464000" cy="144000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argini d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occhi flottan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de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locchi posizionat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do assoluto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 collassan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essun ca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: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CENTRARE UN BOX NELLA PAGI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o dei problemi che spesso si incontrano coi CSS è l’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apparent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ifficoltà di centrare un box nella pagina o in un box conteni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base alle specifiche CSS, per posizionare un blocco al centro della pagina è sufficiente specificare il valor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er i margini laterali:</a:t>
            </a:r>
            <a:br>
              <a:rPr sz="2800"/>
            </a:b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#box { margin : 1em auto 1em auto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urtroppo, le vecchie versioni di Internet Explorer per Windows hanno un modo diverso di centrare il box che richiede di impostare al valore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center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ext-al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I MARGINI, CENTRARE UN BOX NELLA P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: CENTRARE UN BOX NELLA PAGI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a originalità di Internet Explorer ha però un duplice effetto neg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  necessario utilizzare del codice ridondante per supportare le vecchie versioni di Internet Explo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i affronta i CSS le prime volte, può “istintivamente” provare a centrare un box attraverso la dichiarazion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ext-align:cente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to che IE/Win (versione 6 e precedenti) risponderà secondo le aspettative di chi realizza il codice, in quest’ultimo spesso nasce una duplice idea errat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 box si centrano con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ext-alig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, ma Mozilla non è in grado di centrare il bo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Si noti che 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  <a:ea typeface="Arial"/>
              </a:rPr>
              <a:t>text-alig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Arial"/>
              </a:rPr>
              <a:t> è specifica per il testo, dunque il comportamento di Internet Explorer è del tutto arbit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I MARGINI, CENTRARE UN BOX NELLA P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MARGINI: CENTRARE UN BOX NELLA PAGINA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 pratica, per centrare un box nella pagina è necessario il seguente codice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dy { text-align : center;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box {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 : auto;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text-align : left; 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e il box da centrare ha una larghezza espressa in percentuali può essere sufficiente agire sui margini laterali del box o il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  <a:ea typeface="Arial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 del box contenitore: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  <a:ea typeface="Arial"/>
              </a:rPr>
              <a:t>body { padding : 10% 0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  <a:ea typeface="Arial"/>
              </a:rPr>
              <a:t>box {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  <a:ea typeface="Arial"/>
              </a:rPr>
              <a:t>/* non è necessario impostare la larghezza */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  <a:ea typeface="Arial"/>
              </a:rPr>
              <a:t> }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ovvero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  <a:ea typeface="Arial"/>
              </a:rPr>
              <a:t>box { width : 80%; margin : auto 10%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SECONDA PARTE: I MARGINI, CENTRARE UN BOX NELLA P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PADD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una sorta di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imbottit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ra i contenuti e i bordi di un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specificare il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i utilizza la stessa sintassi usata per i margini</a:t>
            </a:r>
            <a:br>
              <a:rPr sz="2400"/>
            </a:b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 {padding-left:0.5em; padding-right:0.5em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v { padding: 10px 20px 10px 20px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.classe { padding: 0.5em 0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#id { padding: 5% }</a:t>
            </a:r>
            <a:br>
              <a:rPr sz="2400"/>
            </a:b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 differenza di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margi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ammette il val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non ammette valori 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box adiacenti non collassa in nessun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BORD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bordi sono caratterizzati da tre aspet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pess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i aspetti possono essere definiti separatamente c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ty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top-sty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width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top-width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color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top-col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no ammesse le dichiarazioni compatte per i quattro lati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style: &lt;stile&gt; &lt;stile&gt; &lt;stile&gt; &lt;stile&gt;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definire contemporaneamente i tre aspetti si usa la seguente sintassi: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-top: &lt;spessore&gt; &lt;stile&gt; &lt;colore&gt;</a:t>
            </a:r>
            <a:br>
              <a:rPr sz="2000"/>
            </a:b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rder: &lt;spessore&gt; &lt;stile&gt; &lt;color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BORD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941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ti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disposizione son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soli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linea continua singol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ott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punteggia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ashe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tratteggia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oub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oppia linea continua – è necessario uno spessore di almeno 3px per ottenere l’effetto desidera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groo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scava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dg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effetto opposto a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groo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l bordo appare sbalza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in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incastonato, l’effetto grafico equivale a un pulsante premu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out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effetto opposto a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in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’effetto grafico equivale a un pulsante non ancora premu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nessun bordo, valore predefini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6516720" y="1700280"/>
            <a:ext cx="225108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A STRUTTURA PER I CONTENU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tre a caratterizzare i contenuti (titoli, paragrafi, liste, collegamenti), il linguaggio di marcatura ha il compito di realizzare l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uttur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cui inserire i contenuti stes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aggrup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lementi da trattare come u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ggetto un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’elemento chiave è il tag 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ag </a:t>
            </a:r>
            <a:r>
              <a:rPr b="1" lang="en-US" sz="32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è un contenitore gene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 BORD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o stile predefinito è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dunque se non si specifica lo stile del bordo questo 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non sarà comunque mostr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o spessore del bordo può essere espresso attraverso le varie unità di lunghezza o attraverso i tre valori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hi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medium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thick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le unità percentuali non sono amm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colore, se non specificato, corrisponde a quello del testo usato nel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E/Win non supporta bordi punteggiati da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1p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FLOW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 detto, è possibile specificare la larghezza e l’altezza di un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 i contenuti eccedono le dimensioni del blocco è possibile definire il comportamento del blocco stesso attraverso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overflow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overflow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uò assumere i seguenti valor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visib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(valore predefini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id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scro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FLOW: VISI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1498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visib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dica che i contenuti vanno mostrati norm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contenuti dovrebbero essere mostrati senza alterare la dimensione del conten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net Explorer per Windows espande il contenitore fino alla dimensione richiesta da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width:200px;height:20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overflow:visib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5653080" y="1700280"/>
            <a:ext cx="3360600" cy="226512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5653080" y="4118040"/>
            <a:ext cx="3360600" cy="22651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FLOW: HIDDE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8607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valor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hidden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dica che i contenuti vanno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agliat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non devono apparir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arre di scor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v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width:200px;height:200p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overflow:hid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5218200" y="1882800"/>
            <a:ext cx="3746520" cy="40672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VERFLOW: SCROLL E AUT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8920" y="4118040"/>
            <a:ext cx="842472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valore </a:t>
            </a:r>
            <a:r>
              <a:rPr b="1" lang="it-IT" sz="2100" spc="-1" strike="noStrike">
                <a:solidFill>
                  <a:srgbClr val="cc3300"/>
                </a:solidFill>
                <a:latin typeface="Courier New"/>
              </a:rPr>
              <a:t>scroll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indica che i contenuti vanno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agliati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necessari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Le barre di scorrimento devono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comunque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apparir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Il valore </a:t>
            </a:r>
            <a:r>
              <a:rPr b="1" lang="it-IT" sz="2100" spc="-1" strike="noStrike">
                <a:solidFill>
                  <a:srgbClr val="cc3300"/>
                </a:solidFill>
                <a:latin typeface="Courier New"/>
              </a:rPr>
              <a:t>aut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indica che i contenuti vanno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tagliati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, se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necessari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 Le barre di scorrimento devono apparire dove </a:t>
            </a:r>
            <a:r>
              <a:rPr b="1" lang="it-IT" sz="2100" spc="-1" strike="noStrike">
                <a:solidFill>
                  <a:srgbClr val="000000"/>
                </a:solidFill>
                <a:latin typeface="Arial"/>
              </a:rPr>
              <a:t>necessario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La dimensione del contenitore non è alter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BOX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254240" y="1700280"/>
            <a:ext cx="2344680" cy="226512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541840" y="1700280"/>
            <a:ext cx="234504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rebuchet MS"/>
              </a:rPr>
              <a:t>PRIMA PARTE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403280" y="369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VISUAL FORMATT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VISUAL FORMATTING MOD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È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ieme al box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o degli elementi fondamentali per la realizzazione di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aginazion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tta essenzialmente de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ort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 un box 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z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gli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ltri box dell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sce i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zionamen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i diversi box all’interno della pag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IPI DI BO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 sono essenzialmente due tipi di bo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box 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ivello di bl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 box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in li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elementi di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ltri tipi di box sono scarsamente suppor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gni elemento appartiene ad uno dei tre tipi di bo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x a livello di blocco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p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h1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ox ano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ox in linea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em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a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span&g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box anoni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lementi di lista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&lt;li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IPI DI BOX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l tipo di box può essere alterato attraverso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display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la quale può assumere i seguenti valo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in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ist-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33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ne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: elimina il box dalla visualizz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n realtà esistono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umerosi altri valori possibil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ma sono tutti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scarsamente supportati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dai diversi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FLUSS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717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diversi box sono inseriti nel così detto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uss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ox a livello di blocco (compresi i box anonimi) si dispongono uno di seguito all’altr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vertic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istanziandosi in base ai marg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box in linea (compresi i box anonimi) si dispongon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zzontalmen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o di seguito all’altro, su una o più linee a seconda dello spazio. La lor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ziatura orizzon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è determinat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a margini, bordi e padding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paziatura verticale è determinata solo dall’interlinea (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line-heigh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219640" y="1557360"/>
            <a:ext cx="37450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p { border:1px solid #00C;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em{ margin:2em;border:1px solid #C00 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strong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border:1px solid #0C0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padding:0.7em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rcRect l="0" t="784" r="-384" b="0"/>
          <a:stretch/>
        </p:blipFill>
        <p:spPr>
          <a:xfrm>
            <a:off x="5292720" y="2924280"/>
            <a:ext cx="3672000" cy="36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4160" y="620640"/>
            <a:ext cx="8634240" cy="5834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24000" y="5013360"/>
            <a:ext cx="4679640" cy="122400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FLUSSO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9338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la regolazione del flusso di elementi in linea assume importanza 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ertical-al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a proprietà assume signific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le celle di una tab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gli elementi in l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gli elementi in linea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ertical-alig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efinisce l’allineamento verticale di un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lemento in line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ll’interno di un’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tra linea di altezza superi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vertical-alig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non definisce l’allineamento verticale del testo all’interno di box a livello di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435640" y="1700280"/>
            <a:ext cx="331308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p#lh{ line-height:2em;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strong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line-height:1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vertical-align:to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p#va { </a:t>
            </a:r>
            <a:r>
              <a:rPr b="1" lang="it-IT" sz="1400" spc="-1" strike="noStrike">
                <a:solidFill>
                  <a:srgbClr val="006600"/>
                </a:solidFill>
                <a:latin typeface="Courier New"/>
              </a:rPr>
              <a:t>/* uso errato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height:5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vertical-align:botto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573880" y="4062240"/>
            <a:ext cx="2885760" cy="23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SIZIONAMENTO RELATIV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50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sizionamento rela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ltera il normale flusso dei box a livello di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raverso la dichiarazione ‘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osition:relativ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’ è possibile definire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ff-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per il posizionamento del blocco all’interno del flu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ff-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n alter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l posizionamento dei blocchi che seguono e precedono nel flusso il blocco interess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off-se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assegnato tramite le proprietà: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003640" y="1628640"/>
            <a:ext cx="396108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#p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osition:relativ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left:1em;top:1.5e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 { padding:0.5em;margin:1em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076720" y="3141720"/>
            <a:ext cx="388620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SIZIONAMENTO ASSOLU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raverso la dichiarazion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osition:absolut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è possibile posizionare il box in un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unto esatto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pagina indipendentemente dal flus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blocco posizionato in modo assoluto è del tutto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stratto dal fluss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non ha alcuna influenza sulla posizione degli altri bloc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posizione è stabilita attraverso le proprietà: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 partire da un determin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punto di riferimento iniz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valore di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to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indica la distanza tra il limite superiore del blocco posizionato e il limite superiore del padding del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ox di riferimento;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esso vale per le altre proprietà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botto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ox di riferimento è il primo blocco progenitore posizionato in modo non assoluto o relativ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oppure l’elemento </a:t>
            </a: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SIZIONAMENTO ASSOLUT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4596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blocco posizionato in modo assoluto, 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n si specific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valore per la proprietà </a:t>
            </a: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ssume 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mensione necessa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 contenere gli elementi al suo inte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box in linea posizionato in modo assoluto diviene un box a livello di bloc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3500280"/>
            <a:ext cx="4105440" cy="29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&lt;p&gt;(1) …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&lt;p id="pa"&gt;(2) …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&lt;p&gt;(3) …&lt;/p&gt;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#pa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osition:absolu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right:5px; bottom:5px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margin: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p { margin:1em 10px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4500720" y="3860640"/>
            <a:ext cx="4314600" cy="206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x flotta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è posizionato all’interno del flusso in modo che 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u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i box successivi si dispongano attorno al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ox flottante posiziona lungo il lato sinistro ovvero lungo il lato destro del box che lo conti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4811760" y="1700280"/>
            <a:ext cx="3805200" cy="4682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ttraverso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è possibile assegnare verso quale lato il box deve disporsi</a:t>
            </a:r>
            <a:br>
              <a:rPr sz="2800"/>
            </a:b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può assumere tre valori: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n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box flottante, se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n si specifica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un valore per la proprietà </a:t>
            </a:r>
            <a:r>
              <a:rPr b="1" lang="it-IT" sz="2800" spc="-1" strike="noStrike">
                <a:solidFill>
                  <a:srgbClr val="cc3300"/>
                </a:solidFill>
                <a:latin typeface="Courier New"/>
              </a:rPr>
              <a:t>width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, assume la 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dimensione necessaria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 a contenere gli elementi al suo in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3421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&gt;(1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 id="fl"&gt;(2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&gt;(3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 id="fr"&gt;(4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&gt;(5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&lt;p&gt;(6) …&lt;/p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#f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width:20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#f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loat:rig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width:20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5275080" cy="48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margini inferiore e superiore di un box flott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collass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box flottante 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imina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 normale flusso per cu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influenz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disposizione degli altri box, 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o la disposizione dei 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rcRect l="1014" t="10170" r="40520" b="19568"/>
          <a:stretch/>
        </p:blipFill>
        <p:spPr>
          <a:xfrm>
            <a:off x="4643280" y="1773360"/>
            <a:ext cx="4032360" cy="44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58920" y="4118040"/>
            <a:ext cx="8424720" cy="22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chi flottanti consecutivi si dispongono uno di fianco all’al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lo spazio non è sufficiente a contenere i diversi blocchi, quelli in eccesso sono disposti al di sotto degli alt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492120" y="1700280"/>
            <a:ext cx="3867120" cy="22651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535720" y="1700280"/>
            <a:ext cx="235908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3925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interrompere l’effetto del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loa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ipristinare il normale fluss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usa la proprietà ‘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clear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’, che può assumere i valori: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lef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righ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both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p#fl {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width:200p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p#cl { clear: left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427640" y="1514520"/>
            <a:ext cx="4556160" cy="5010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flipV="1">
            <a:off x="1547640" y="4005000"/>
            <a:ext cx="3095640" cy="7189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2843280" y="5229000"/>
            <a:ext cx="1657440" cy="863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A STRUTTURA PER I CONTENU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620960" cy="155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424720" cy="40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 …&gt;Articles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 …&gt;Topics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…&gt;About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 …&gt;Contact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 …&gt;Contribute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li&gt;&lt;a …&gt;Feed&lt;/a&gt;&lt;/li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/ul&gt;</a:t>
            </a:r>
            <a:br>
              <a:rPr sz="1800"/>
            </a:b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h1&gt;&lt;a …&gt;&lt;img … /&gt;&lt;/a&gt;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a …&gt;No. &lt;em&gt;200&lt;/em&gt;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r>
              <a:rPr b="0" lang="it-IT" sz="18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X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VISUAL FORMATTING MODEL: 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50036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detto in precedenza, i box flottanti non influenzano il normale flusso dei blo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box flottante contenuto in un blocc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 dovrebbe dunque condizion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nessun modo l’altezza del blocco conten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ll’esempio, il blocco contenitore (un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ha una dimensione verticale determinata esclusivamente dal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pad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gn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95280" y="4365720"/>
            <a:ext cx="410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2360" y="1700280"/>
            <a:ext cx="396072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#fl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loat:left; width:20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 { padding: 1em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rcRect l="0" t="0" r="0" b="14432"/>
          <a:stretch/>
        </p:blipFill>
        <p:spPr>
          <a:xfrm>
            <a:off x="5200560" y="3284640"/>
            <a:ext cx="3619440" cy="309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-181080" y="5516640"/>
            <a:ext cx="9506160" cy="100800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58560" y="1557000"/>
            <a:ext cx="413532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rnet Explorer per Windows ha un comportamento particolare ed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rra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qualora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mens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 blocco contenitore foss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ssegn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l blocco flottante contenuto n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fluenzerebb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a dimen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p.fl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float:left;width:200px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div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padding:1em;width:90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&lt;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&lt;p class="fl"&gt;Atqui …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&lt;/div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c3300"/>
                </a:solidFill>
                <a:latin typeface="Courier New"/>
              </a:rPr>
              <a:t>&lt;p&gt;Si noti …&lt;/p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esto comportament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uc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pess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 erro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hi non conosc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mportamento dei blocchi flottant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521320" y="1660680"/>
            <a:ext cx="3514680" cy="46479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>
            <a:off x="3349800" y="2997360"/>
            <a:ext cx="2374560" cy="1995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09" name=""/>
          <p:cNvSpPr/>
          <p:nvPr/>
        </p:nvSpPr>
        <p:spPr>
          <a:xfrm>
            <a:off x="4356000" y="1916280"/>
            <a:ext cx="1511280" cy="2887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uttavia,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e anche il blocco contenitore è flottan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allora i blocchi flottanti contenuti ne influenzano l’altezz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.f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float:left; width:200p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div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padding:1em; float:le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4646520" y="2117880"/>
            <a:ext cx="413712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-181080" y="5661000"/>
            <a:ext cx="9506160" cy="863640"/>
          </a:xfrm>
          <a:prstGeom prst="rect">
            <a:avLst/>
          </a:prstGeom>
          <a:solidFill>
            <a:srgbClr val="fffb69">
              <a:alpha val="50000"/>
            </a:srgbClr>
          </a:solidFill>
          <a:ln w="1260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L VISUAL FORMATTING MODEL: BOX FLOTTANTI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41353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Un altro metodo che può essere utilizzato per consentire ad un blocco flottante di influenzare l’altezza del suo contenitore è inserire un blocco successivo con assegnata opportunamente la proprietà </a:t>
            </a: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clear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#fl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float: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p#cl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clear:lef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33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 questo caso, sarà il blocco non flottante a determinare l’altezza del blocco conteni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4646520" y="2001960"/>
            <a:ext cx="4137120" cy="4078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 flipV="1">
            <a:off x="1332000" y="3357720"/>
            <a:ext cx="3960720" cy="3585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03280" y="4653000"/>
            <a:ext cx="3889440" cy="4316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Explorer per Windows presenta altri difetti relativi ai box flott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lcuni casi questi difetti possono esse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rett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traverso delle regole d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icare solo per Internet Explo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5365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net Explorer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raddopp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l margine laterale corrispondente a quello specificato per la proprietà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soluzione consiste nell’aggiungere la dichiarazione </a:t>
            </a:r>
            <a:r>
              <a:rPr b="1" lang="it-IT" sz="2400" spc="-1" strike="noStrike">
                <a:solidFill>
                  <a:srgbClr val="cc3300"/>
                </a:solidFill>
                <a:latin typeface="Courier New"/>
              </a:rPr>
              <a:t>display:inlin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alla regola per l’elemento flot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esta dichiarazione non ha alcuna influenza negli altri browser, dato che un box flottante è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comunqu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un box a livello di bloc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63640" cy="226512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6156360" y="4118040"/>
            <a:ext cx="2663640" cy="22651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45734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 secondo baco molto frequente è noto col nome di 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peek-a-boo bu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letteralmen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baco del nascondi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baco coinvolg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olo la versione 6 di Internet Explorer per Windows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d ha come conseguenza la scomparsa del testo che affianca il box flott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le testo ricompare (del tutto o in parte) selezionandolo col mouse, attivando la modalità di visualizzazione a tutto schermo, ridimensionando i caratte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5052960" y="1879560"/>
            <a:ext cx="3911760" cy="4429080"/>
            <a:chOff x="5052960" y="1879560"/>
            <a:chExt cx="3911760" cy="4429080"/>
          </a:xfrm>
        </p:grpSpPr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5052960" y="1879560"/>
              <a:ext cx="3911760" cy="442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 txBox="1"/>
            <p:nvPr/>
          </p:nvSpPr>
          <p:spPr>
            <a:xfrm>
              <a:off x="5052960" y="1879560"/>
              <a:ext cx="3911760" cy="4429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58920" y="1700280"/>
            <a:ext cx="842472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o baco si presenta generalmente quando un box, c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fondo assegna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zza e larghezza non assegn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ie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 box flottante, del testo che si dispone attorno a tale box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za superarlo in altezz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u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x con assegnata la proprietà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cle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luzi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iste nell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pecificare l’interlinea per uno dei blocchi progenitor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&lt;body&gt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reso) tramite la proprietà </a:t>
            </a: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line-heigh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 esempio:</a:t>
            </a:r>
            <a:br>
              <a:rPr sz="2800"/>
            </a:br>
            <a:r>
              <a:rPr b="1" lang="en-US" sz="2800" spc="-1" strike="noStrike">
                <a:solidFill>
                  <a:srgbClr val="cc3300"/>
                </a:solidFill>
                <a:latin typeface="Courier New"/>
              </a:rPr>
              <a:t>body { line-height : 1.2em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52210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do un blocco che segue un box flottante ha 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e assegn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tezza o larghezza), anziché posizionars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pendentemen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l box flottante, s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fian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quest’u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ltre il brows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iu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 mod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bitrar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3 pix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gine latera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posto a quello specificato per la proprietà </a:t>
            </a:r>
            <a:r>
              <a:rPr b="1" lang="en-US" sz="2400" spc="-1" strike="noStrike">
                <a:solidFill>
                  <a:srgbClr val="cc3300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867280" y="1700280"/>
            <a:ext cx="3137040" cy="226512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5872320" y="4118040"/>
            <a:ext cx="3125520" cy="2265120"/>
          </a:xfrm>
          <a:prstGeom prst="rect">
            <a:avLst/>
          </a:prstGeom>
          <a:ln w="0">
            <a:noFill/>
          </a:ln>
        </p:spPr>
      </p:pic>
      <p:sp>
        <p:nvSpPr>
          <p:cNvPr id="443" name=""/>
          <p:cNvSpPr/>
          <p:nvPr/>
        </p:nvSpPr>
        <p:spPr>
          <a:xfrm flipV="1">
            <a:off x="3614760" y="2755440"/>
            <a:ext cx="2521080" cy="576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457960" y="3898800"/>
            <a:ext cx="626760" cy="97020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93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198000" rIns="198000" tIns="118800" bIns="118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OX FLOTTANT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ALTRI DIFETTI DI INTERNET EXPLORER PER WINDOW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8560" y="1700280"/>
            <a:ext cx="3997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Si abbia un box flottante: si vuole affiancargli una seconda “</a:t>
            </a:r>
            <a:r>
              <a:rPr b="0" i="1" lang="it-IT" sz="1900" spc="-1" strike="noStrike">
                <a:solidFill>
                  <a:srgbClr val="000000"/>
                </a:solidFill>
                <a:latin typeface="Arial"/>
              </a:rPr>
              <a:t>colonna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” semplicemente specificando il margine laterale del blocco successivo:</a:t>
            </a:r>
            <a:br>
              <a:rPr sz="1900"/>
            </a:b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#fl {float:left;width:200px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cc3300"/>
                </a:solidFill>
                <a:latin typeface="Courier New"/>
              </a:rPr>
              <a:t>#box {margin:0 0 0 200px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 3 pixel aggiunti arbitrariamente da IE/Win visti in precedenza indenteranno i contenuti della seconda colonna per tutta l’altezza della prim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Il difetto non si presenterebbe se anche il secondo blocco fosse flott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4284720" y="1628640"/>
            <a:ext cx="4797360" cy="43484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0" y="26028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RIMA PARTE: IL VISUAL FORMATTING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2"/>
          <a:stretch/>
        </p:blipFill>
        <p:spPr>
          <a:xfrm>
            <a:off x="6516720" y="4508640"/>
            <a:ext cx="2382840" cy="1838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10:15:12Z</dcterms:created>
  <dc:creator>-</dc:creator>
  <dc:description/>
  <dc:language>en-US</dc:language>
  <cp:lastModifiedBy>-</cp:lastModifiedBy>
  <dcterms:modified xsi:type="dcterms:W3CDTF">2006-03-12T11:34:20Z</dcterms:modified>
  <cp:revision>515</cp:revision>
  <dc:subject/>
  <dc:title>Diapositiva 1</dc:title>
</cp:coreProperties>
</file>